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7.png" ContentType="image/png"/>
  <Override PartName="/ppt/media/image56.png" ContentType="image/png"/>
  <Override PartName="/ppt/media/image55.png" ContentType="image/png"/>
  <Override PartName="/ppt/media/image20.jpeg" ContentType="image/jpeg"/>
  <Override PartName="/ppt/media/image54.png" ContentType="image/png"/>
  <Override PartName="/ppt/media/image53.png" ContentType="image/png"/>
  <Override PartName="/ppt/media/image4.png" ContentType="image/png"/>
  <Override PartName="/ppt/media/jep3.wav" ContentType="audio/x-wav"/>
  <Override PartName="/ppt/media/image10.png" ContentType="image/png"/>
  <Override PartName="/ppt/media/image47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61.wmf" ContentType="image/x-wmf"/>
  <Override PartName="/ppt/media/image5.png" ContentType="image/png"/>
  <Override PartName="/ppt/media/image17.png" ContentType="image/png"/>
  <Override PartName="/ppt/media/image49.png" ContentType="image/png"/>
  <Override PartName="/ppt/media/image12.png" ContentType="image/png"/>
  <Override PartName="/ppt/media/image3.png" ContentType="image/png"/>
  <Override PartName="/ppt/media/image15.png" ContentType="image/png"/>
  <Override PartName="/ppt/media/image18.jpeg" ContentType="image/jpeg"/>
  <Override PartName="/ppt/media/image35.wmf" ContentType="image/x-wmf"/>
  <Override PartName="/ppt/media/image16.jpeg" ContentType="image/jpeg"/>
  <Override PartName="/ppt/media/image14.png" ContentType="image/png"/>
  <Override PartName="/ppt/media/image2.png" ContentType="image/png"/>
  <Override PartName="/ppt/media/image62.png" ContentType="image/png"/>
  <Override PartName="/ppt/media/image23.wmf" ContentType="image/x-wmf"/>
  <Override PartName="/ppt/media/image63.wmf" ContentType="image/x-wmf"/>
  <Override PartName="/ppt/media/image26.wmf" ContentType="image/x-wmf"/>
  <Override PartName="/ppt/media/image60.wmf" ContentType="image/x-wmf"/>
  <Override PartName="/ppt/media/image25.wmf" ContentType="image/x-wmf"/>
  <Override PartName="/ppt/media/image19.jpeg" ContentType="image/jpeg"/>
  <Override PartName="/ppt/media/image59.wmf" ContentType="image/x-wmf"/>
  <Override PartName="/ppt/media/image22.wmf" ContentType="image/x-wmf"/>
  <Override PartName="/ppt/media/image24.wmf" ContentType="image/x-wmf"/>
  <Override PartName="/ppt/media/image40.wmf" ContentType="image/x-wmf"/>
  <Override PartName="/ppt/media/image6.png" ContentType="image/png"/>
  <Override PartName="/ppt/media/image7.png" ContentType="image/png"/>
  <Override PartName="/ppt/media/image41.wmf" ContentType="image/x-wmf"/>
  <Override PartName="/ppt/media/image27.wmf" ContentType="image/x-wmf"/>
  <Override PartName="/ppt/media/image11.jpeg" ContentType="image/jpeg"/>
  <Override PartName="/ppt/media/image13.png" ContentType="image/png"/>
  <Override PartName="/ppt/media/APPLAUSE.WAV" ContentType="audio/x-wav"/>
  <Override PartName="/ppt/media/image8.png" ContentType="image/png"/>
  <Override PartName="/ppt/media/image42.wmf" ContentType="image/x-wmf"/>
  <Override PartName="/ppt/media/image28.wmf" ContentType="image/x-wmf"/>
  <Override PartName="/ppt/media/image29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33.wmf" ContentType="image/x-wmf"/>
  <Override PartName="/ppt/media/image34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39.wmf" ContentType="image/x-wmf"/>
  <Override PartName="/ppt/media/image9.png" ContentType="image/png"/>
  <Override PartName="/ppt/media/image43.wmf" ContentType="image/x-wmf"/>
  <Override PartName="/ppt/media/image44.wmf" ContentType="image/x-wmf"/>
  <Override PartName="/ppt/media/image45.png" ContentType="image/png"/>
  <Override PartName="/ppt/media/image46.png" ContentType="image/png"/>
  <Override PartName="/ppt/media/image48.png" ContentType="image/png"/>
  <Override PartName="/ppt/media/image50.png" ContentType="image/png"/>
  <Override PartName="/ppt/media/image51.png" ContentType="image/png"/>
  <Override PartName="/ppt/media/image5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41070-5188-4A29-B94B-B95984678E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696F6-3C95-4C3F-A2D4-6CA63810A7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A4BF4-C250-4148-8249-F6F0F38259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125DA-DCE4-47E7-8A8D-11B279867A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799E-CFAD-486A-83AC-0341772CD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11A88-4FF8-417D-BA22-62F1644779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CF35-1DB1-40AA-95BF-D83265F4C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7619-4AC5-4FF4-B794-958D39100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C6FCA-7AF7-4C46-AB61-23EAC788F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5365-6582-42FE-A3E5-F800723D6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2F20F-10FE-4091-B9A4-94876B2A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61CE-D76E-473C-B81C-2F4CC4188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86A2-EE7E-43CF-9157-94EB76E15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BE44-BB96-461A-9AE9-83C0AE93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AE1E-B943-4B11-A5C1-6DED2F25B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F3A7-1336-4189-B7E8-5B98C3AA7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1C191-7BC9-4F4A-A017-CB861DFA3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8306-2278-45E2-B5F7-72F085EBB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f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0FCC0-B36F-45C1-88A9-4C86935E4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jep3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image" Target="../media/image14.png"/><Relationship Id="rId23" Type="http://schemas.openxmlformats.org/officeDocument/2006/relationships/image" Target="../media/image14.png"/><Relationship Id="rId24" Type="http://schemas.openxmlformats.org/officeDocument/2006/relationships/image" Target="../media/image14.png"/><Relationship Id="rId2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image" Target="../media/image15.png"/><Relationship Id="rId16" Type="http://schemas.openxmlformats.org/officeDocument/2006/relationships/image" Target="../media/image15.png"/><Relationship Id="rId17" Type="http://schemas.openxmlformats.org/officeDocument/2006/relationships/image" Target="../media/image15.png"/><Relationship Id="rId18" Type="http://schemas.openxmlformats.org/officeDocument/2006/relationships/image" Target="../media/image15.png"/><Relationship Id="rId19" Type="http://schemas.openxmlformats.org/officeDocument/2006/relationships/image" Target="../media/image15.png"/><Relationship Id="rId20" Type="http://schemas.openxmlformats.org/officeDocument/2006/relationships/image" Target="../media/image15.png"/><Relationship Id="rId21" Type="http://schemas.openxmlformats.org/officeDocument/2006/relationships/image" Target="../media/image15.png"/><Relationship Id="rId22" Type="http://schemas.openxmlformats.org/officeDocument/2006/relationships/image" Target="../media/image15.png"/><Relationship Id="rId23" Type="http://schemas.openxmlformats.org/officeDocument/2006/relationships/image" Target="../media/image15.png"/><Relationship Id="rId24" Type="http://schemas.openxmlformats.org/officeDocument/2006/relationships/image" Target="../media/image15.png"/><Relationship Id="rId25" Type="http://schemas.openxmlformats.org/officeDocument/2006/relationships/image" Target="../media/image15.png"/><Relationship Id="rId26" Type="http://schemas.openxmlformats.org/officeDocument/2006/relationships/image" Target="../media/image15.png"/><Relationship Id="rId27" Type="http://schemas.openxmlformats.org/officeDocument/2006/relationships/image" Target="../media/image15.png"/><Relationship Id="rId28" Type="http://schemas.openxmlformats.org/officeDocument/2006/relationships/image" Target="../media/image15.png"/><Relationship Id="rId29" Type="http://schemas.openxmlformats.org/officeDocument/2006/relationships/image" Target="../media/image15.png"/><Relationship Id="rId30" Type="http://schemas.openxmlformats.org/officeDocument/2006/relationships/image" Target="../media/image15.png"/><Relationship Id="rId3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3.xml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wmf"/><Relationship Id="rId5" Type="http://schemas.openxmlformats.org/officeDocument/2006/relationships/image" Target="../media/image32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6.wmf"/><Relationship Id="rId10" Type="http://schemas.openxmlformats.org/officeDocument/2006/relationships/image" Target="../media/image37.wmf"/><Relationship Id="rId11" Type="http://schemas.openxmlformats.org/officeDocument/2006/relationships/image" Target="../media/image38.wmf"/><Relationship Id="rId12" Type="http://schemas.openxmlformats.org/officeDocument/2006/relationships/image" Target="../media/image39.wmf"/><Relationship Id="rId13" Type="http://schemas.openxmlformats.org/officeDocument/2006/relationships/image" Target="../media/image40.wmf"/><Relationship Id="rId1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image" Target="../media/image43.wmf"/><Relationship Id="rId5" Type="http://schemas.openxmlformats.org/officeDocument/2006/relationships/image" Target="../media/image4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" Target="slide14.xml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" Target="slide24.xml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slide" Target="slide20.xml"/><Relationship Id="rId10" Type="http://schemas.openxmlformats.org/officeDocument/2006/relationships/image" Target="../media/image4.png"/><Relationship Id="rId11" Type="http://schemas.openxmlformats.org/officeDocument/2006/relationships/image" Target="../media/image3.png"/><Relationship Id="rId12" Type="http://schemas.openxmlformats.org/officeDocument/2006/relationships/slide" Target="slide43.xml"/><Relationship Id="rId13" Type="http://schemas.openxmlformats.org/officeDocument/2006/relationships/image" Target="../media/image4.png"/><Relationship Id="rId14" Type="http://schemas.openxmlformats.org/officeDocument/2006/relationships/image" Target="../media/image3.png"/><Relationship Id="rId15" Type="http://schemas.openxmlformats.org/officeDocument/2006/relationships/slide" Target="slide53.xml"/><Relationship Id="rId16" Type="http://schemas.openxmlformats.org/officeDocument/2006/relationships/image" Target="../media/image4.png"/><Relationship Id="rId17" Type="http://schemas.openxmlformats.org/officeDocument/2006/relationships/image" Target="../media/image5.png"/><Relationship Id="rId18" Type="http://schemas.openxmlformats.org/officeDocument/2006/relationships/slide" Target="slide6.xml"/><Relationship Id="rId19" Type="http://schemas.openxmlformats.org/officeDocument/2006/relationships/image" Target="../media/image6.png"/><Relationship Id="rId20" Type="http://schemas.openxmlformats.org/officeDocument/2006/relationships/image" Target="../media/image7.png"/><Relationship Id="rId21" Type="http://schemas.openxmlformats.org/officeDocument/2006/relationships/slide" Target="slide16.xml"/><Relationship Id="rId22" Type="http://schemas.openxmlformats.org/officeDocument/2006/relationships/image" Target="../media/image4.png"/><Relationship Id="rId23" Type="http://schemas.openxmlformats.org/officeDocument/2006/relationships/image" Target="../media/image7.png"/><Relationship Id="rId24" Type="http://schemas.openxmlformats.org/officeDocument/2006/relationships/slide" Target="slide26.xml"/><Relationship Id="rId25" Type="http://schemas.openxmlformats.org/officeDocument/2006/relationships/image" Target="../media/image4.png"/><Relationship Id="rId26" Type="http://schemas.openxmlformats.org/officeDocument/2006/relationships/image" Target="../media/image7.png"/><Relationship Id="rId27" Type="http://schemas.openxmlformats.org/officeDocument/2006/relationships/slide" Target="slide35.xml"/><Relationship Id="rId28" Type="http://schemas.openxmlformats.org/officeDocument/2006/relationships/image" Target="../media/image4.png"/><Relationship Id="rId29" Type="http://schemas.openxmlformats.org/officeDocument/2006/relationships/image" Target="../media/image7.png"/><Relationship Id="rId30" Type="http://schemas.openxmlformats.org/officeDocument/2006/relationships/slide" Target="slide45.xml"/><Relationship Id="rId31" Type="http://schemas.openxmlformats.org/officeDocument/2006/relationships/image" Target="../media/image4.png"/><Relationship Id="rId32" Type="http://schemas.openxmlformats.org/officeDocument/2006/relationships/image" Target="../media/image7.png"/><Relationship Id="rId33" Type="http://schemas.openxmlformats.org/officeDocument/2006/relationships/slide" Target="slide55.xml"/><Relationship Id="rId34" Type="http://schemas.openxmlformats.org/officeDocument/2006/relationships/image" Target="../media/image4.png"/><Relationship Id="rId35" Type="http://schemas.openxmlformats.org/officeDocument/2006/relationships/image" Target="../media/image2.png"/><Relationship Id="rId36" Type="http://schemas.openxmlformats.org/officeDocument/2006/relationships/slide" Target="slide8.xml"/><Relationship Id="rId37" Type="http://schemas.openxmlformats.org/officeDocument/2006/relationships/image" Target="../media/image6.png"/><Relationship Id="rId38" Type="http://schemas.openxmlformats.org/officeDocument/2006/relationships/image" Target="../media/image3.png"/><Relationship Id="rId39" Type="http://schemas.openxmlformats.org/officeDocument/2006/relationships/slide" Target="slide18.xml"/><Relationship Id="rId40" Type="http://schemas.openxmlformats.org/officeDocument/2006/relationships/image" Target="../media/image4.png"/><Relationship Id="rId41" Type="http://schemas.openxmlformats.org/officeDocument/2006/relationships/image" Target="../media/image3.png"/><Relationship Id="rId42" Type="http://schemas.openxmlformats.org/officeDocument/2006/relationships/slide" Target="slide28.xml"/><Relationship Id="rId43" Type="http://schemas.openxmlformats.org/officeDocument/2006/relationships/image" Target="../media/image4.png"/><Relationship Id="rId44" Type="http://schemas.openxmlformats.org/officeDocument/2006/relationships/image" Target="../media/image3.png"/><Relationship Id="rId45" Type="http://schemas.openxmlformats.org/officeDocument/2006/relationships/slide" Target="slide37.xml"/><Relationship Id="rId46" Type="http://schemas.openxmlformats.org/officeDocument/2006/relationships/image" Target="../media/image4.png"/><Relationship Id="rId47" Type="http://schemas.openxmlformats.org/officeDocument/2006/relationships/image" Target="../media/image3.png"/><Relationship Id="rId48" Type="http://schemas.openxmlformats.org/officeDocument/2006/relationships/slide" Target="slide47.xml"/><Relationship Id="rId49" Type="http://schemas.openxmlformats.org/officeDocument/2006/relationships/image" Target="../media/image4.png"/><Relationship Id="rId50" Type="http://schemas.openxmlformats.org/officeDocument/2006/relationships/image" Target="../media/image3.png"/><Relationship Id="rId51" Type="http://schemas.openxmlformats.org/officeDocument/2006/relationships/slide" Target="slide57.xml"/><Relationship Id="rId52" Type="http://schemas.openxmlformats.org/officeDocument/2006/relationships/image" Target="../media/image4.png"/><Relationship Id="rId53" Type="http://schemas.openxmlformats.org/officeDocument/2006/relationships/image" Target="../media/image5.png"/><Relationship Id="rId54" Type="http://schemas.openxmlformats.org/officeDocument/2006/relationships/slide" Target="slide10.xml"/><Relationship Id="rId55" Type="http://schemas.openxmlformats.org/officeDocument/2006/relationships/image" Target="../media/image6.png"/><Relationship Id="rId56" Type="http://schemas.openxmlformats.org/officeDocument/2006/relationships/image" Target="../media/image7.png"/><Relationship Id="rId57" Type="http://schemas.openxmlformats.org/officeDocument/2006/relationships/slide" Target="slide20.xml"/><Relationship Id="rId58" Type="http://schemas.openxmlformats.org/officeDocument/2006/relationships/image" Target="../media/image4.png"/><Relationship Id="rId59" Type="http://schemas.openxmlformats.org/officeDocument/2006/relationships/image" Target="../media/image7.png"/><Relationship Id="rId60" Type="http://schemas.openxmlformats.org/officeDocument/2006/relationships/slide" Target="slide30.xml"/><Relationship Id="rId61" Type="http://schemas.openxmlformats.org/officeDocument/2006/relationships/image" Target="../media/image4.png"/><Relationship Id="rId62" Type="http://schemas.openxmlformats.org/officeDocument/2006/relationships/image" Target="../media/image7.png"/><Relationship Id="rId63" Type="http://schemas.openxmlformats.org/officeDocument/2006/relationships/slide" Target="slide39.xml"/><Relationship Id="rId64" Type="http://schemas.openxmlformats.org/officeDocument/2006/relationships/image" Target="../media/image4.png"/><Relationship Id="rId65" Type="http://schemas.openxmlformats.org/officeDocument/2006/relationships/image" Target="../media/image7.png"/><Relationship Id="rId66" Type="http://schemas.openxmlformats.org/officeDocument/2006/relationships/slide" Target="slide49.xml"/><Relationship Id="rId67" Type="http://schemas.openxmlformats.org/officeDocument/2006/relationships/image" Target="../media/image4.png"/><Relationship Id="rId68" Type="http://schemas.openxmlformats.org/officeDocument/2006/relationships/image" Target="../media/image7.png"/><Relationship Id="rId69" Type="http://schemas.openxmlformats.org/officeDocument/2006/relationships/slide" Target="slide58.xml"/><Relationship Id="rId70" Type="http://schemas.openxmlformats.org/officeDocument/2006/relationships/image" Target="../media/image4.png"/><Relationship Id="rId71" Type="http://schemas.openxmlformats.org/officeDocument/2006/relationships/image" Target="../media/image2.png"/><Relationship Id="rId72" Type="http://schemas.openxmlformats.org/officeDocument/2006/relationships/slide" Target="slide12.xml"/><Relationship Id="rId73" Type="http://schemas.openxmlformats.org/officeDocument/2006/relationships/image" Target="../media/image6.png"/><Relationship Id="rId74" Type="http://schemas.openxmlformats.org/officeDocument/2006/relationships/image" Target="../media/image3.png"/><Relationship Id="rId75" Type="http://schemas.openxmlformats.org/officeDocument/2006/relationships/slide" Target="slide22.xml"/><Relationship Id="rId76" Type="http://schemas.openxmlformats.org/officeDocument/2006/relationships/image" Target="../media/image4.png"/><Relationship Id="rId77" Type="http://schemas.openxmlformats.org/officeDocument/2006/relationships/image" Target="../media/image3.png"/><Relationship Id="rId78" Type="http://schemas.openxmlformats.org/officeDocument/2006/relationships/slide" Target="slide32.xml"/><Relationship Id="rId79" Type="http://schemas.openxmlformats.org/officeDocument/2006/relationships/image" Target="../media/image4.png"/><Relationship Id="rId80" Type="http://schemas.openxmlformats.org/officeDocument/2006/relationships/image" Target="../media/image3.png"/><Relationship Id="rId81" Type="http://schemas.openxmlformats.org/officeDocument/2006/relationships/slide" Target="slide41.xml"/><Relationship Id="rId82" Type="http://schemas.openxmlformats.org/officeDocument/2006/relationships/image" Target="../media/image4.png"/><Relationship Id="rId83" Type="http://schemas.openxmlformats.org/officeDocument/2006/relationships/image" Target="../media/image3.png"/><Relationship Id="rId84" Type="http://schemas.openxmlformats.org/officeDocument/2006/relationships/slide" Target="slide51.xml"/><Relationship Id="rId85" Type="http://schemas.openxmlformats.org/officeDocument/2006/relationships/image" Target="../media/image4.png"/><Relationship Id="rId86" Type="http://schemas.openxmlformats.org/officeDocument/2006/relationships/image" Target="../media/image3.png"/><Relationship Id="rId87" Type="http://schemas.openxmlformats.org/officeDocument/2006/relationships/slide" Target="slide61.xml"/><Relationship Id="rId88" Type="http://schemas.openxmlformats.org/officeDocument/2006/relationships/image" Target="../media/image4.png"/><Relationship Id="rId89" Type="http://schemas.openxmlformats.org/officeDocument/2006/relationships/image" Target="../media/image5.png"/><Relationship Id="rId90" Type="http://schemas.openxmlformats.org/officeDocument/2006/relationships/image" Target="../media/image7.png"/><Relationship Id="rId91" Type="http://schemas.openxmlformats.org/officeDocument/2006/relationships/image" Target="../media/image7.png"/><Relationship Id="rId92" Type="http://schemas.openxmlformats.org/officeDocument/2006/relationships/image" Target="../media/image7.png"/><Relationship Id="rId93" Type="http://schemas.openxmlformats.org/officeDocument/2006/relationships/image" Target="../media/image7.png"/><Relationship Id="rId94" Type="http://schemas.openxmlformats.org/officeDocument/2006/relationships/image" Target="../media/image7.png"/><Relationship Id="rId95" Type="http://schemas.openxmlformats.org/officeDocument/2006/relationships/hyperlink" Target="file:///tmp/home/.config/libreoffice/4/user/gallery/APPLAUSE.WAV" TargetMode="External"/><Relationship Id="rId96" Type="http://schemas.openxmlformats.org/officeDocument/2006/relationships/image" Target="../media/image8.png"/><Relationship Id="rId97" Type="http://schemas.openxmlformats.org/officeDocument/2006/relationships/image" Target="../media/image9.png"/><Relationship Id="rId98" Type="http://schemas.openxmlformats.org/officeDocument/2006/relationships/hyperlink" Target="file:///tmp/home/.config/libreoffice/4/user/gallery/APPLAUSE.WAV" TargetMode="External"/><Relationship Id="rId99" Type="http://schemas.openxmlformats.org/officeDocument/2006/relationships/image" Target="../media/image8.png"/><Relationship Id="rId100" Type="http://schemas.openxmlformats.org/officeDocument/2006/relationships/slide" Target=""/><Relationship Id="rId101" Type="http://schemas.openxmlformats.org/officeDocument/2006/relationships/slide" Target="slide14.xml"/><Relationship Id="rId102" Type="http://schemas.openxmlformats.org/officeDocument/2006/relationships/slideLayout" Target="../slideLayouts/slideLayout1.xml"/><Relationship Id="rId10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7.wm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9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4.png"/><Relationship Id="rId3" Type="http://schemas.openxmlformats.org/officeDocument/2006/relationships/image" Target="../media/image54.png"/><Relationship Id="rId4" Type="http://schemas.openxmlformats.org/officeDocument/2006/relationships/image" Target="../media/image55.png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4.png"/><Relationship Id="rId3" Type="http://schemas.openxmlformats.org/officeDocument/2006/relationships/image" Target="../media/image56.png"/><Relationship Id="rId4" Type="http://schemas.openxmlformats.org/officeDocument/2006/relationships/image" Target="../media/image54.png"/><Relationship Id="rId5" Type="http://schemas.openxmlformats.org/officeDocument/2006/relationships/image" Target="../media/image54.png"/><Relationship Id="rId6" Type="http://schemas.openxmlformats.org/officeDocument/2006/relationships/image" Target="../media/image54.png"/><Relationship Id="rId7" Type="http://schemas.openxmlformats.org/officeDocument/2006/relationships/image" Target="../media/image54.png"/><Relationship Id="rId8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image" Target="../media/image57.png"/><Relationship Id="rId6" Type="http://schemas.openxmlformats.org/officeDocument/2006/relationships/image" Target="../media/image57.png"/><Relationship Id="rId7" Type="http://schemas.openxmlformats.org/officeDocument/2006/relationships/image" Target="../media/image58.png"/><Relationship Id="rId8" Type="http://schemas.openxmlformats.org/officeDocument/2006/relationships/image" Target="../media/image58.png"/><Relationship Id="rId9" Type="http://schemas.openxmlformats.org/officeDocument/2006/relationships/image" Target="../media/image58.png"/><Relationship Id="rId10" Type="http://schemas.openxmlformats.org/officeDocument/2006/relationships/image" Target="../media/image58.png"/><Relationship Id="rId1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59.wmf"/><Relationship Id="rId3" Type="http://schemas.openxmlformats.org/officeDocument/2006/relationships/image" Target="../media/image59.wmf"/><Relationship Id="rId4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9.wmf"/><Relationship Id="rId2" Type="http://schemas.openxmlformats.org/officeDocument/2006/relationships/image" Target="../media/image59.wmf"/><Relationship Id="rId3" Type="http://schemas.openxmlformats.org/officeDocument/2006/relationships/image" Target="../media/image59.wmf"/><Relationship Id="rId4" Type="http://schemas.openxmlformats.org/officeDocument/2006/relationships/image" Target="../media/image59.wmf"/><Relationship Id="rId5" Type="http://schemas.openxmlformats.org/officeDocument/2006/relationships/image" Target="../media/image59.wmf"/><Relationship Id="rId6" Type="http://schemas.openxmlformats.org/officeDocument/2006/relationships/image" Target="../media/image59.wmf"/><Relationship Id="rId7" Type="http://schemas.openxmlformats.org/officeDocument/2006/relationships/image" Target="../media/image59.wmf"/><Relationship Id="rId8" Type="http://schemas.openxmlformats.org/officeDocument/2006/relationships/image" Target="../media/image59.wmf"/><Relationship Id="rId9" Type="http://schemas.openxmlformats.org/officeDocument/2006/relationships/image" Target="../media/image59.wmf"/><Relationship Id="rId10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" Target="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0.wmf"/><Relationship Id="rId2" Type="http://schemas.openxmlformats.org/officeDocument/2006/relationships/image" Target="../media/image60.wmf"/><Relationship Id="rId3" Type="http://schemas.openxmlformats.org/officeDocument/2006/relationships/image" Target="../media/image60.wmf"/><Relationship Id="rId4" Type="http://schemas.openxmlformats.org/officeDocument/2006/relationships/image" Target="../media/image60.wmf"/><Relationship Id="rId5" Type="http://schemas.openxmlformats.org/officeDocument/2006/relationships/image" Target="../media/image60.wmf"/><Relationship Id="rId6" Type="http://schemas.openxmlformats.org/officeDocument/2006/relationships/image" Target="../media/image60.wmf"/><Relationship Id="rId7" Type="http://schemas.openxmlformats.org/officeDocument/2006/relationships/image" Target="../media/image60.wmf"/><Relationship Id="rId8" Type="http://schemas.openxmlformats.org/officeDocument/2006/relationships/image" Target="../media/image60.wmf"/><Relationship Id="rId9" Type="http://schemas.openxmlformats.org/officeDocument/2006/relationships/image" Target="../media/image60.wmf"/><Relationship Id="rId10" Type="http://schemas.openxmlformats.org/officeDocument/2006/relationships/image" Target="../media/image60.wmf"/><Relationship Id="rId1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61.wmf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3.wmf"/><Relationship Id="rId3" Type="http://schemas.openxmlformats.org/officeDocument/2006/relationships/image" Target="../media/image63.wmf"/><Relationship Id="rId4" Type="http://schemas.openxmlformats.org/officeDocument/2006/relationships/image" Target="../media/image63.wmf"/><Relationship Id="rId5" Type="http://schemas.openxmlformats.org/officeDocument/2006/relationships/image" Target="../media/image63.wmf"/><Relationship Id="rId6" Type="http://schemas.openxmlformats.org/officeDocument/2006/relationships/image" Target="../media/image63.wmf"/><Relationship Id="rId7" Type="http://schemas.openxmlformats.org/officeDocument/2006/relationships/image" Target="../media/image63.wmf"/><Relationship Id="rId8" Type="http://schemas.openxmlformats.org/officeDocument/2006/relationships/image" Target="../media/image63.wmf"/><Relationship Id="rId9" Type="http://schemas.openxmlformats.org/officeDocument/2006/relationships/image" Target="../media/image63.wmf"/><Relationship Id="rId10" Type="http://schemas.openxmlformats.org/officeDocument/2006/relationships/image" Target="../media/image63.wmf"/><Relationship Id="rId1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ttp://www.pps.k12.pa.us/143110127104733313/lib/143110127104733313/Distance%20Learning/Pictures/Jeopard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2">
            <a:hlinkClick r:id="rId1" action="ppaction://hlinksldjump"/>
          </p:cNvPr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Picture 7" descr="C:\Documents and Settings\jdempsey\Local Settings\Temporary Internet Files\Content.IE5\Q2IIA3HU\MC900438020[1].png"/>
          <p:cNvPicPr/>
          <p:nvPr/>
        </p:nvPicPr>
        <p:blipFill>
          <a:blip r:embed="rId2"/>
          <a:stretch/>
        </p:blipFill>
        <p:spPr>
          <a:xfrm>
            <a:off x="6858000" y="10666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7" descr="C:\Documents and Settings\jdempsey\Local Settings\Temporary Internet Files\Content.IE5\Q2IIA3HU\MC900438020[1].png"/>
          <p:cNvPicPr/>
          <p:nvPr/>
        </p:nvPicPr>
        <p:blipFill>
          <a:blip r:embed="rId3"/>
          <a:stretch/>
        </p:blipFill>
        <p:spPr>
          <a:xfrm>
            <a:off x="4876920" y="4191120"/>
            <a:ext cx="947520" cy="9475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C:\Documents and Settings\jdempsey\Local Settings\Temporary Internet Files\Content.IE5\Q2IIA3HU\MC900438020[1].png"/>
          <p:cNvPicPr/>
          <p:nvPr/>
        </p:nvPicPr>
        <p:blipFill>
          <a:blip r:embed="rId4"/>
          <a:stretch/>
        </p:blipFill>
        <p:spPr>
          <a:xfrm>
            <a:off x="6248520" y="4038480"/>
            <a:ext cx="947520" cy="947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7" descr="C:\Documents and Settings\jdempsey\Local Settings\Temporary Internet Files\Content.IE5\Q2IIA3HU\MC900438020[1].png"/>
          <p:cNvPicPr/>
          <p:nvPr/>
        </p:nvPicPr>
        <p:blipFill>
          <a:blip r:embed="rId5"/>
          <a:stretch/>
        </p:blipFill>
        <p:spPr>
          <a:xfrm>
            <a:off x="4800600" y="37339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7" descr="C:\Documents and Settings\jdempsey\Local Settings\Temporary Internet Files\Content.IE5\Q2IIA3HU\MC900438020[1].png"/>
          <p:cNvPicPr/>
          <p:nvPr/>
        </p:nvPicPr>
        <p:blipFill>
          <a:blip r:embed="rId6"/>
          <a:stretch/>
        </p:blipFill>
        <p:spPr>
          <a:xfrm>
            <a:off x="4724280" y="32767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C:\Documents and Settings\jdempsey\Local Settings\Temporary Internet Files\Content.IE5\Q2IIA3HU\MC900438020[1].png"/>
          <p:cNvPicPr/>
          <p:nvPr/>
        </p:nvPicPr>
        <p:blipFill>
          <a:blip r:embed="rId7"/>
          <a:stretch/>
        </p:blipFill>
        <p:spPr>
          <a:xfrm>
            <a:off x="4572000" y="28195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Documents and Settings\jdempsey\Local Settings\Temporary Internet Files\Content.IE5\Q2IIA3HU\MC900438020[1].png"/>
          <p:cNvPicPr/>
          <p:nvPr/>
        </p:nvPicPr>
        <p:blipFill>
          <a:blip r:embed="rId8"/>
          <a:stretch/>
        </p:blipFill>
        <p:spPr>
          <a:xfrm>
            <a:off x="4495680" y="228600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C:\Documents and Settings\jdempsey\Local Settings\Temporary Internet Files\Content.IE5\Q2IIA3HU\MC900438020[1].png"/>
          <p:cNvPicPr/>
          <p:nvPr/>
        </p:nvPicPr>
        <p:blipFill>
          <a:blip r:embed="rId9"/>
          <a:stretch/>
        </p:blipFill>
        <p:spPr>
          <a:xfrm>
            <a:off x="4419720" y="1828800"/>
            <a:ext cx="947520" cy="9478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Documents and Settings\jdempsey\Local Settings\Temporary Internet Files\Content.IE5\Q2IIA3HU\MC900438020[1].png"/>
          <p:cNvPicPr/>
          <p:nvPr/>
        </p:nvPicPr>
        <p:blipFill>
          <a:blip r:embed="rId10"/>
          <a:stretch/>
        </p:blipFill>
        <p:spPr>
          <a:xfrm>
            <a:off x="4419720" y="1295280"/>
            <a:ext cx="947520" cy="9478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C:\Documents and Settings\jdempsey\Local Settings\Temporary Internet Files\Content.IE5\Q2IIA3HU\MC900438020[1].png"/>
          <p:cNvPicPr/>
          <p:nvPr/>
        </p:nvPicPr>
        <p:blipFill>
          <a:blip r:embed="rId11"/>
          <a:stretch/>
        </p:blipFill>
        <p:spPr>
          <a:xfrm>
            <a:off x="6095880" y="35053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C:\Documents and Settings\jdempsey\Local Settings\Temporary Internet Files\Content.IE5\Q2IIA3HU\MC900438020[1].png"/>
          <p:cNvPicPr/>
          <p:nvPr/>
        </p:nvPicPr>
        <p:blipFill>
          <a:blip r:embed="rId12"/>
          <a:stretch/>
        </p:blipFill>
        <p:spPr>
          <a:xfrm>
            <a:off x="6019920" y="3048120"/>
            <a:ext cx="947520" cy="9475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C:\Documents and Settings\jdempsey\Local Settings\Temporary Internet Files\Content.IE5\Q2IIA3HU\MC900438020[1].png"/>
          <p:cNvPicPr/>
          <p:nvPr/>
        </p:nvPicPr>
        <p:blipFill>
          <a:blip r:embed="rId13"/>
          <a:stretch/>
        </p:blipFill>
        <p:spPr>
          <a:xfrm>
            <a:off x="5943600" y="25909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7" descr="C:\Documents and Settings\jdempsey\Local Settings\Temporary Internet Files\Content.IE5\Q2IIA3HU\MC900438020[1].png"/>
          <p:cNvPicPr/>
          <p:nvPr/>
        </p:nvPicPr>
        <p:blipFill>
          <a:blip r:embed="rId14"/>
          <a:stretch/>
        </p:blipFill>
        <p:spPr>
          <a:xfrm>
            <a:off x="5867280" y="21337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7" descr="C:\Documents and Settings\jdempsey\Local Settings\Temporary Internet Files\Content.IE5\Q2IIA3HU\MC900438020[1].png"/>
          <p:cNvPicPr/>
          <p:nvPr/>
        </p:nvPicPr>
        <p:blipFill>
          <a:blip r:embed="rId15"/>
          <a:stretch/>
        </p:blipFill>
        <p:spPr>
          <a:xfrm>
            <a:off x="5867280" y="16765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7" descr="C:\Documents and Settings\jdempsey\Local Settings\Temporary Internet Files\Content.IE5\Q2IIA3HU\MC900438020[1].png"/>
          <p:cNvPicPr/>
          <p:nvPr/>
        </p:nvPicPr>
        <p:blipFill>
          <a:blip r:embed="rId16"/>
          <a:stretch/>
        </p:blipFill>
        <p:spPr>
          <a:xfrm>
            <a:off x="5867280" y="1219320"/>
            <a:ext cx="947880" cy="94752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C:\Documents and Settings\jdempsey\Local Settings\Temporary Internet Files\Content.IE5\Q2IIA3HU\MC900438020[1].png"/>
          <p:cNvPicPr/>
          <p:nvPr/>
        </p:nvPicPr>
        <p:blipFill>
          <a:blip r:embed="rId17"/>
          <a:stretch/>
        </p:blipFill>
        <p:spPr>
          <a:xfrm>
            <a:off x="3200400" y="19810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7" descr="C:\Documents and Settings\jdempsey\Local Settings\Temporary Internet Files\Content.IE5\Q2IIA3HU\MC900438020[1].png"/>
          <p:cNvPicPr/>
          <p:nvPr/>
        </p:nvPicPr>
        <p:blipFill>
          <a:blip r:embed="rId18"/>
          <a:stretch/>
        </p:blipFill>
        <p:spPr>
          <a:xfrm>
            <a:off x="3124080" y="15238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C:\Documents and Settings\jdempsey\Local Settings\Temporary Internet Files\Content.IE5\Q2IIA3HU\MC900438020[1].png"/>
          <p:cNvPicPr/>
          <p:nvPr/>
        </p:nvPicPr>
        <p:blipFill>
          <a:blip r:embed="rId19"/>
          <a:stretch/>
        </p:blipFill>
        <p:spPr>
          <a:xfrm>
            <a:off x="7086600" y="38098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C:\Documents and Settings\jdempsey\Local Settings\Temporary Internet Files\Content.IE5\Q2IIA3HU\MC900438020[1].png"/>
          <p:cNvPicPr/>
          <p:nvPr/>
        </p:nvPicPr>
        <p:blipFill>
          <a:blip r:embed="rId20"/>
          <a:stretch/>
        </p:blipFill>
        <p:spPr>
          <a:xfrm>
            <a:off x="7162920" y="3352680"/>
            <a:ext cx="947520" cy="9478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7" descr="C:\Documents and Settings\jdempsey\Local Settings\Temporary Internet Files\Content.IE5\Q2IIA3HU\MC900438020[1].png"/>
          <p:cNvPicPr/>
          <p:nvPr/>
        </p:nvPicPr>
        <p:blipFill>
          <a:blip r:embed="rId21"/>
          <a:stretch/>
        </p:blipFill>
        <p:spPr>
          <a:xfrm>
            <a:off x="7086600" y="28954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C:\Documents and Settings\jdempsey\Local Settings\Temporary Internet Files\Content.IE5\Q2IIA3HU\MC900438020[1].png"/>
          <p:cNvPicPr/>
          <p:nvPr/>
        </p:nvPicPr>
        <p:blipFill>
          <a:blip r:embed="rId22"/>
          <a:stretch/>
        </p:blipFill>
        <p:spPr>
          <a:xfrm>
            <a:off x="7086600" y="243828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C:\Documents and Settings\jdempsey\Local Settings\Temporary Internet Files\Content.IE5\Q2IIA3HU\MC900438020[1].png"/>
          <p:cNvPicPr/>
          <p:nvPr/>
        </p:nvPicPr>
        <p:blipFill>
          <a:blip r:embed="rId23"/>
          <a:stretch/>
        </p:blipFill>
        <p:spPr>
          <a:xfrm>
            <a:off x="7010280" y="2057400"/>
            <a:ext cx="947880" cy="94788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7" descr="C:\Documents and Settings\jdempsey\Local Settings\Temporary Internet Files\Content.IE5\Q2IIA3HU\MC900438020[1].png"/>
          <p:cNvPicPr/>
          <p:nvPr/>
        </p:nvPicPr>
        <p:blipFill>
          <a:blip r:embed="rId24"/>
          <a:stretch/>
        </p:blipFill>
        <p:spPr>
          <a:xfrm>
            <a:off x="6934320" y="1600200"/>
            <a:ext cx="947520" cy="94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Box 6"/>
          <p:cNvSpPr/>
          <p:nvPr/>
        </p:nvSpPr>
        <p:spPr>
          <a:xfrm>
            <a:off x="2895480" y="7621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TextBox 19"/>
          <p:cNvSpPr/>
          <p:nvPr/>
        </p:nvSpPr>
        <p:spPr>
          <a:xfrm>
            <a:off x="1676520" y="19051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Kartika"/>
                <a:ea typeface="Kartika"/>
              </a:rPr>
              <a:t>2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Documents and Settings\jdempsey\Local Settings\Temporary Internet Files\Content.IE5\VR8Q88BS\MC900432545[1].png"/>
          <p:cNvPicPr/>
          <p:nvPr/>
        </p:nvPicPr>
        <p:blipFill>
          <a:blip r:embed="rId2"/>
          <a:stretch/>
        </p:blipFill>
        <p:spPr>
          <a:xfrm>
            <a:off x="1981080" y="228600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C:\Documents and Settings\jdempsey\Local Settings\Temporary Internet Files\Content.IE5\VR8Q88BS\MC900432545[1].png"/>
          <p:cNvPicPr/>
          <p:nvPr/>
        </p:nvPicPr>
        <p:blipFill>
          <a:blip r:embed="rId3"/>
          <a:stretch/>
        </p:blipFill>
        <p:spPr>
          <a:xfrm>
            <a:off x="1905120" y="152388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6" descr="C:\Documents and Settings\jdempsey\Local Settings\Temporary Internet Files\Content.IE5\VR8Q88BS\MC900432545[1].png"/>
          <p:cNvPicPr/>
          <p:nvPr/>
        </p:nvPicPr>
        <p:blipFill>
          <a:blip r:embed="rId4"/>
          <a:stretch/>
        </p:blipFill>
        <p:spPr>
          <a:xfrm>
            <a:off x="2819520" y="220968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6" descr="C:\Documents and Settings\jdempsey\Local Settings\Temporary Internet Files\Content.IE5\VR8Q88BS\MC900432545[1].png"/>
          <p:cNvPicPr/>
          <p:nvPr/>
        </p:nvPicPr>
        <p:blipFill>
          <a:blip r:embed="rId5"/>
          <a:stretch/>
        </p:blipFill>
        <p:spPr>
          <a:xfrm>
            <a:off x="2819520" y="1447920"/>
            <a:ext cx="799920" cy="7189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" descr="C:\Documents and Settings\jdempsey\Local Settings\Temporary Internet Files\Content.IE5\VR8Q88BS\MC900432545[1].png"/>
          <p:cNvPicPr/>
          <p:nvPr/>
        </p:nvPicPr>
        <p:blipFill>
          <a:blip r:embed="rId6"/>
          <a:stretch/>
        </p:blipFill>
        <p:spPr>
          <a:xfrm>
            <a:off x="3657600" y="220968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6" descr="C:\Documents and Settings\jdempsey\Local Settings\Temporary Internet Files\Content.IE5\VR8Q88BS\MC900432545[1].png"/>
          <p:cNvPicPr/>
          <p:nvPr/>
        </p:nvPicPr>
        <p:blipFill>
          <a:blip r:embed="rId7"/>
          <a:stretch/>
        </p:blipFill>
        <p:spPr>
          <a:xfrm>
            <a:off x="3733920" y="137160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jdempsey\Local Settings\Temporary Internet Files\Content.IE5\VR8Q88BS\MC900432545[1].png"/>
          <p:cNvPicPr/>
          <p:nvPr/>
        </p:nvPicPr>
        <p:blipFill>
          <a:blip r:embed="rId8"/>
          <a:stretch/>
        </p:blipFill>
        <p:spPr>
          <a:xfrm>
            <a:off x="4495680" y="220968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Documents and Settings\jdempsey\Local Settings\Temporary Internet Files\Content.IE5\VR8Q88BS\MC900432545[1].png"/>
          <p:cNvPicPr/>
          <p:nvPr/>
        </p:nvPicPr>
        <p:blipFill>
          <a:blip r:embed="rId9"/>
          <a:stretch/>
        </p:blipFill>
        <p:spPr>
          <a:xfrm>
            <a:off x="4572000" y="1447920"/>
            <a:ext cx="800280" cy="7189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6" descr="C:\Documents and Settings\jdempsey\Local Settings\Temporary Internet Files\Content.IE5\VR8Q88BS\MC900432545[1].png"/>
          <p:cNvPicPr/>
          <p:nvPr/>
        </p:nvPicPr>
        <p:blipFill>
          <a:blip r:embed="rId10"/>
          <a:stretch/>
        </p:blipFill>
        <p:spPr>
          <a:xfrm>
            <a:off x="5334120" y="220968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6" descr="C:\Documents and Settings\jdempsey\Local Settings\Temporary Internet Files\Content.IE5\VR8Q88BS\MC900432545[1].png"/>
          <p:cNvPicPr/>
          <p:nvPr/>
        </p:nvPicPr>
        <p:blipFill>
          <a:blip r:embed="rId11"/>
          <a:stretch/>
        </p:blipFill>
        <p:spPr>
          <a:xfrm>
            <a:off x="5410080" y="1447920"/>
            <a:ext cx="800280" cy="7189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Documents and Settings\jdempsey\Local Settings\Temporary Internet Files\Content.IE5\VR8Q88BS\MC900432545[1].png"/>
          <p:cNvPicPr/>
          <p:nvPr/>
        </p:nvPicPr>
        <p:blipFill>
          <a:blip r:embed="rId12"/>
          <a:stretch/>
        </p:blipFill>
        <p:spPr>
          <a:xfrm>
            <a:off x="6172200" y="228600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C:\Documents and Settings\jdempsey\Local Settings\Temporary Internet Files\Content.IE5\VR8Q88BS\MC900432545[1].png"/>
          <p:cNvPicPr/>
          <p:nvPr/>
        </p:nvPicPr>
        <p:blipFill>
          <a:blip r:embed="rId13"/>
          <a:stretch/>
        </p:blipFill>
        <p:spPr>
          <a:xfrm>
            <a:off x="6248520" y="152388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C:\Documents and Settings\jdempsey\Local Settings\Temporary Internet Files\Content.IE5\VR8Q88BS\MC900432545[1].png"/>
          <p:cNvPicPr/>
          <p:nvPr/>
        </p:nvPicPr>
        <p:blipFill>
          <a:blip r:embed="rId14"/>
          <a:stretch/>
        </p:blipFill>
        <p:spPr>
          <a:xfrm>
            <a:off x="3581280" y="297180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6" descr="C:\Documents and Settings\jdempsey\Local Settings\Temporary Internet Files\Content.IE5\VR8Q88BS\MC900432545[1].png"/>
          <p:cNvPicPr/>
          <p:nvPr/>
        </p:nvPicPr>
        <p:blipFill>
          <a:blip r:embed="rId15"/>
          <a:stretch/>
        </p:blipFill>
        <p:spPr>
          <a:xfrm>
            <a:off x="4419720" y="289548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6" descr="C:\Documents and Settings\jdempsey\Local Settings\Temporary Internet Files\Content.IE5\VR8Q88BS\MC900432545[1].png"/>
          <p:cNvPicPr/>
          <p:nvPr/>
        </p:nvPicPr>
        <p:blipFill>
          <a:blip r:embed="rId16"/>
          <a:stretch/>
        </p:blipFill>
        <p:spPr>
          <a:xfrm>
            <a:off x="5257800" y="297180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6" descr="C:\Documents and Settings\jdempsey\Local Settings\Temporary Internet Files\Content.IE5\VR8Q88BS\MC900432545[1].png"/>
          <p:cNvPicPr/>
          <p:nvPr/>
        </p:nvPicPr>
        <p:blipFill>
          <a:blip r:embed="rId17"/>
          <a:stretch/>
        </p:blipFill>
        <p:spPr>
          <a:xfrm>
            <a:off x="6095880" y="3048120"/>
            <a:ext cx="800280" cy="7189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6" descr="C:\Documents and Settings\jdempsey\Local Settings\Temporary Internet Files\Content.IE5\VR8Q88BS\MC900432545[1].png"/>
          <p:cNvPicPr/>
          <p:nvPr/>
        </p:nvPicPr>
        <p:blipFill>
          <a:blip r:embed="rId18"/>
          <a:stretch/>
        </p:blipFill>
        <p:spPr>
          <a:xfrm>
            <a:off x="5257800" y="3733920"/>
            <a:ext cx="800280" cy="7189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6" descr="C:\Documents and Settings\jdempsey\Local Settings\Temporary Internet Files\Content.IE5\VR8Q88BS\MC900432545[1].png"/>
          <p:cNvPicPr/>
          <p:nvPr/>
        </p:nvPicPr>
        <p:blipFill>
          <a:blip r:embed="rId19"/>
          <a:stretch/>
        </p:blipFill>
        <p:spPr>
          <a:xfrm>
            <a:off x="6019920" y="380988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C:\Documents and Settings\jdempsey\Local Settings\Temporary Internet Files\Content.IE5\VR8Q88BS\MC900432545[1].png"/>
          <p:cNvPicPr/>
          <p:nvPr/>
        </p:nvPicPr>
        <p:blipFill>
          <a:blip r:embed="rId20"/>
          <a:stretch/>
        </p:blipFill>
        <p:spPr>
          <a:xfrm>
            <a:off x="1905120" y="3048120"/>
            <a:ext cx="799920" cy="7189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C:\Documents and Settings\jdempsey\Local Settings\Temporary Internet Files\Content.IE5\VR8Q88BS\MC900432545[1].png"/>
          <p:cNvPicPr/>
          <p:nvPr/>
        </p:nvPicPr>
        <p:blipFill>
          <a:blip r:embed="rId21"/>
          <a:stretch/>
        </p:blipFill>
        <p:spPr>
          <a:xfrm>
            <a:off x="2743200" y="297180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6" descr="C:\Documents and Settings\jdempsey\Local Settings\Temporary Internet Files\Content.IE5\VR8Q88BS\MC900432545[1].png"/>
          <p:cNvPicPr/>
          <p:nvPr/>
        </p:nvPicPr>
        <p:blipFill>
          <a:blip r:embed="rId22"/>
          <a:stretch/>
        </p:blipFill>
        <p:spPr>
          <a:xfrm>
            <a:off x="1143000" y="289548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6" descr="C:\Documents and Settings\jdempsey\Local Settings\Temporary Internet Files\Content.IE5\VR8Q88BS\MC900432545[1].png"/>
          <p:cNvPicPr/>
          <p:nvPr/>
        </p:nvPicPr>
        <p:blipFill>
          <a:blip r:embed="rId23"/>
          <a:stretch/>
        </p:blipFill>
        <p:spPr>
          <a:xfrm>
            <a:off x="1219320" y="3733920"/>
            <a:ext cx="799920" cy="71892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6" descr="C:\Documents and Settings\jdempsey\Local Settings\Temporary Internet Files\Content.IE5\VR8Q88BS\MC900432545[1].png"/>
          <p:cNvPicPr/>
          <p:nvPr/>
        </p:nvPicPr>
        <p:blipFill>
          <a:blip r:embed="rId24"/>
          <a:stretch/>
        </p:blipFill>
        <p:spPr>
          <a:xfrm>
            <a:off x="1981080" y="380988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Documents and Settings\jdempsey\Local Settings\Temporary Internet Files\Content.IE5\VR8Q88BS\MC900432545[1].png"/>
          <p:cNvPicPr/>
          <p:nvPr/>
        </p:nvPicPr>
        <p:blipFill>
          <a:blip r:embed="rId25"/>
          <a:stretch/>
        </p:blipFill>
        <p:spPr>
          <a:xfrm>
            <a:off x="2743200" y="3733920"/>
            <a:ext cx="800280" cy="7189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6" descr="C:\Documents and Settings\jdempsey\Local Settings\Temporary Internet Files\Content.IE5\VR8Q88BS\MC900432545[1].png"/>
          <p:cNvPicPr/>
          <p:nvPr/>
        </p:nvPicPr>
        <p:blipFill>
          <a:blip r:embed="rId26"/>
          <a:stretch/>
        </p:blipFill>
        <p:spPr>
          <a:xfrm>
            <a:off x="3505320" y="3657600"/>
            <a:ext cx="799920" cy="7192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C:\Documents and Settings\jdempsey\Local Settings\Temporary Internet Files\Content.IE5\VR8Q88BS\MC900432545[1].png"/>
          <p:cNvPicPr/>
          <p:nvPr/>
        </p:nvPicPr>
        <p:blipFill>
          <a:blip r:embed="rId27"/>
          <a:stretch/>
        </p:blipFill>
        <p:spPr>
          <a:xfrm>
            <a:off x="4343400" y="365760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6" descr="C:\Documents and Settings\jdempsey\Local Settings\Temporary Internet Files\Content.IE5\VR8Q88BS\MC900432545[1].png"/>
          <p:cNvPicPr/>
          <p:nvPr/>
        </p:nvPicPr>
        <p:blipFill>
          <a:blip r:embed="rId28"/>
          <a:stretch/>
        </p:blipFill>
        <p:spPr>
          <a:xfrm>
            <a:off x="1143000" y="220968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6" descr="C:\Documents and Settings\jdempsey\Local Settings\Temporary Internet Files\Content.IE5\VR8Q88BS\MC900432545[1].png"/>
          <p:cNvPicPr/>
          <p:nvPr/>
        </p:nvPicPr>
        <p:blipFill>
          <a:blip r:embed="rId29"/>
          <a:stretch/>
        </p:blipFill>
        <p:spPr>
          <a:xfrm>
            <a:off x="1066680" y="1523880"/>
            <a:ext cx="800280" cy="71928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6" descr="C:\Documents and Settings\jdempsey\Local Settings\Temporary Internet Files\Content.IE5\VR8Q88BS\MC900432545[1].png"/>
          <p:cNvPicPr/>
          <p:nvPr/>
        </p:nvPicPr>
        <p:blipFill>
          <a:blip r:embed="rId30"/>
          <a:stretch/>
        </p:blipFill>
        <p:spPr>
          <a:xfrm>
            <a:off x="304920" y="1447920"/>
            <a:ext cx="799920" cy="71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Box 19"/>
          <p:cNvSpPr/>
          <p:nvPr/>
        </p:nvSpPr>
        <p:spPr>
          <a:xfrm>
            <a:off x="1676520" y="19051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Kartika"/>
                <a:ea typeface="Kartika"/>
              </a:rPr>
              <a:t>29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Box 19"/>
          <p:cNvSpPr/>
          <p:nvPr/>
        </p:nvSpPr>
        <p:spPr>
          <a:xfrm>
            <a:off x="1752480" y="19051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shape is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AutoShape 7"/>
          <p:cNvSpPr/>
          <p:nvPr/>
        </p:nvSpPr>
        <p:spPr>
          <a:xfrm>
            <a:off x="4356000" y="-1027080"/>
            <a:ext cx="21528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AutoShape 9"/>
          <p:cNvSpPr/>
          <p:nvPr/>
        </p:nvSpPr>
        <p:spPr>
          <a:xfrm>
            <a:off x="4356000" y="-1027080"/>
            <a:ext cx="21528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1" descr="http://t3.gstatic.com/images?q=tbn:ANd9GcTLFweHLi-uGXrp-ORAaXN8pwS6VSjNz7mHqALXghxGA07YFwBy-Q"/>
          <p:cNvPicPr/>
          <p:nvPr/>
        </p:nvPicPr>
        <p:blipFill>
          <a:blip r:embed="rId2"/>
          <a:stretch/>
        </p:blipFill>
        <p:spPr>
          <a:xfrm>
            <a:off x="3429000" y="2971800"/>
            <a:ext cx="1943280" cy="19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Box 19"/>
          <p:cNvSpPr/>
          <p:nvPr/>
        </p:nvSpPr>
        <p:spPr>
          <a:xfrm>
            <a:off x="1676520" y="190512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circl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Box 19"/>
          <p:cNvSpPr/>
          <p:nvPr/>
        </p:nvSpPr>
        <p:spPr>
          <a:xfrm>
            <a:off x="1752480" y="19051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shape is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6"/>
          <p:cNvSpPr/>
          <p:nvPr/>
        </p:nvSpPr>
        <p:spPr>
          <a:xfrm>
            <a:off x="4419720" y="-731880"/>
            <a:ext cx="153324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8" descr="http://exchangedownloads.smarttech.com/public/content/a2/a28daee5-573f-4f1d-943d-807b0fc164f5/previews/medium/0001.png"/>
          <p:cNvPicPr/>
          <p:nvPr/>
        </p:nvPicPr>
        <p:blipFill>
          <a:blip r:embed="rId2"/>
          <a:stretch/>
        </p:blipFill>
        <p:spPr>
          <a:xfrm>
            <a:off x="3200400" y="2819520"/>
            <a:ext cx="2247840" cy="2247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Box 19"/>
          <p:cNvSpPr/>
          <p:nvPr/>
        </p:nvSpPr>
        <p:spPr>
          <a:xfrm>
            <a:off x="1676520" y="1905120"/>
            <a:ext cx="5105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squ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6"/>
          <p:cNvSpPr/>
          <p:nvPr/>
        </p:nvSpPr>
        <p:spPr>
          <a:xfrm>
            <a:off x="7632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0"/>
          <p:cNvSpPr/>
          <p:nvPr/>
        </p:nvSpPr>
        <p:spPr>
          <a:xfrm>
            <a:off x="4375080" y="-944640"/>
            <a:ext cx="23050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12" descr="http://t3.gstatic.com/images?q=tbn:ANd9GcSDMUW6v4iH6WF_TdVGhzxHeBuBsM1mZZRYGa4pNDcBDg82Jac4Xg"/>
          <p:cNvPicPr/>
          <p:nvPr/>
        </p:nvPicPr>
        <p:blipFill>
          <a:blip r:embed="rId2"/>
          <a:stretch/>
        </p:blipFill>
        <p:spPr>
          <a:xfrm>
            <a:off x="3733920" y="3048120"/>
            <a:ext cx="2076480" cy="22003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9"/>
          <p:cNvSpPr/>
          <p:nvPr/>
        </p:nvSpPr>
        <p:spPr>
          <a:xfrm>
            <a:off x="2057400" y="167652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shape is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6"/>
          <p:cNvSpPr/>
          <p:nvPr/>
        </p:nvSpPr>
        <p:spPr>
          <a:xfrm>
            <a:off x="76320" y="-1041480"/>
            <a:ext cx="214308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Box 19"/>
          <p:cNvSpPr/>
          <p:nvPr/>
        </p:nvSpPr>
        <p:spPr>
          <a:xfrm>
            <a:off x="2057400" y="27432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cub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837720"/>
            <a:ext cx="4038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u="sng">
                <a:solidFill>
                  <a:srgbClr val="ccccff"/>
                </a:solidFill>
                <a:uFillTx/>
                <a:latin typeface="Arial Black"/>
                <a:hlinkClick r:id="rId1" action="ppaction://hlinksldjump"/>
              </a:rPr>
              <a:t> With</a:t>
            </a:r>
            <a:r>
              <a:rPr b="0" lang="en-US" sz="8000" spc="-1" strike="noStrike" u="sng">
                <a:solidFill>
                  <a:srgbClr val="ccccff"/>
                </a:solidFill>
                <a:uFillTx/>
                <a:latin typeface="Arial Black"/>
                <a:hlinkClick r:id="rId2" action="ppaction://hlinksldjump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3"/>
          <p:cNvSpPr/>
          <p:nvPr/>
        </p:nvSpPr>
        <p:spPr>
          <a:xfrm>
            <a:off x="685800" y="243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Host..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343400" y="838080"/>
            <a:ext cx="4191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 Black"/>
              </a:rPr>
              <a:t>Your</a:t>
            </a:r>
            <a:r>
              <a:rPr b="0" lang="en-US" sz="8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WordArt 10"/>
          <p:cNvSpPr txBox="1"/>
          <p:nvPr/>
        </p:nvSpPr>
        <p:spPr>
          <a:xfrm>
            <a:off x="990720" y="4191120"/>
            <a:ext cx="72864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eaeaea"/>
                    </a:gs>
                    <a:gs pos="100000">
                      <a:srgbClr val="cbcbcb"/>
                    </a:gs>
                  </a:gsLst>
                  <a:lin ang="18900000"/>
                </a:gradFill>
                <a:latin typeface="Arial Black"/>
              </a:rPr>
              <a:t>Mrs. Dempsey</a:t>
            </a:r>
            <a:endParaRPr b="0" lang="en-US" sz="8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eaeaea"/>
                  </a:gs>
                  <a:gs pos="100000">
                    <a:srgbClr val="cbcbcb"/>
                  </a:gs>
                </a:gsLst>
                <a:lin ang="18900000"/>
              </a:gradFill>
              <a:latin typeface="Arial Black"/>
              <a:ea typeface="Arial Black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100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14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Box 19"/>
          <p:cNvSpPr/>
          <p:nvPr/>
        </p:nvSpPr>
        <p:spPr>
          <a:xfrm>
            <a:off x="2057400" y="16002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shape is thi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9" descr="http://t0.gstatic.com/images?q=tbn:ANd9GcTu532y4Ty6Ep7kbHMKF2w3zivdBSy3d24XRGQ-g2HQMTFtqVIh4Q"/>
          <p:cNvPicPr/>
          <p:nvPr/>
        </p:nvPicPr>
        <p:blipFill>
          <a:blip r:embed="rId2"/>
          <a:stretch/>
        </p:blipFill>
        <p:spPr>
          <a:xfrm>
            <a:off x="3505320" y="2590920"/>
            <a:ext cx="2590560" cy="2454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7" name="Straight Arrow Connector 2"/>
          <p:cNvCxnSpPr/>
          <p:nvPr/>
        </p:nvCxnSpPr>
        <p:spPr>
          <a:xfrm>
            <a:off x="5859000" y="32000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298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Box 19"/>
          <p:cNvSpPr/>
          <p:nvPr/>
        </p:nvSpPr>
        <p:spPr>
          <a:xfrm>
            <a:off x="2057400" y="27432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sphe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2">
            <a:hlinkClick r:id="rId1" action="ppaction://hlinksldjump"/>
          </p:cNvPr>
          <p:cNvSpPr/>
          <p:nvPr/>
        </p:nvSpPr>
        <p:spPr>
          <a:xfrm>
            <a:off x="380880" y="-22860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Picture 6" descr="http://t2.gstatic.com/images?q=tbn:ANd9GcQoiG7AtgeTyzMYYx4Hs9pZ4cZstWOT9ropofkPf0lL1TcZKXlsrLMXhIRv"/>
          <p:cNvPicPr/>
          <p:nvPr/>
        </p:nvPicPr>
        <p:blipFill>
          <a:blip r:embed="rId2"/>
          <a:stretch/>
        </p:blipFill>
        <p:spPr>
          <a:xfrm>
            <a:off x="1523880" y="1828800"/>
            <a:ext cx="2362320" cy="3367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7" descr=""/>
          <p:cNvPicPr/>
          <p:nvPr/>
        </p:nvPicPr>
        <p:blipFill>
          <a:blip r:embed="rId3"/>
          <a:stretch/>
        </p:blipFill>
        <p:spPr>
          <a:xfrm>
            <a:off x="5486400" y="3048120"/>
            <a:ext cx="1676520" cy="140004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9"/>
          <p:cNvSpPr/>
          <p:nvPr/>
        </p:nvSpPr>
        <p:spPr>
          <a:xfrm>
            <a:off x="3733920" y="1600200"/>
            <a:ext cx="5105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How many of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these shape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>
            <a:hlinkClick r:id="rId1" action="ppaction://hlinksldjump"/>
          </p:cNvPr>
          <p:cNvSpPr/>
          <p:nvPr/>
        </p:nvSpPr>
        <p:spPr>
          <a:xfrm>
            <a:off x="0" y="-1440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hap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Box 19"/>
          <p:cNvSpPr/>
          <p:nvPr/>
        </p:nvSpPr>
        <p:spPr>
          <a:xfrm>
            <a:off x="2057400" y="27432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TextBox 19"/>
          <p:cNvSpPr/>
          <p:nvPr/>
        </p:nvSpPr>
        <p:spPr>
          <a:xfrm>
            <a:off x="1600200" y="27432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Name the day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of the week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1026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1028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Picture 6" descr="C:\Documents and Settings\jdempsey\Local Settings\Temporary Internet Files\Content.IE5\2FQ94MNK\MC900434639[1].wmf"/>
          <p:cNvPicPr/>
          <p:nvPr/>
        </p:nvPicPr>
        <p:blipFill>
          <a:blip r:embed="rId2"/>
          <a:stretch/>
        </p:blipFill>
        <p:spPr>
          <a:xfrm>
            <a:off x="1828800" y="1828800"/>
            <a:ext cx="1920960" cy="6858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7" descr="C:\Documents and Settings\jdempsey\Local Settings\Temporary Internet Files\Content.IE5\23QZU1D4\MC900434641[1].wmf"/>
          <p:cNvPicPr/>
          <p:nvPr/>
        </p:nvPicPr>
        <p:blipFill>
          <a:blip r:embed="rId3"/>
          <a:stretch/>
        </p:blipFill>
        <p:spPr>
          <a:xfrm>
            <a:off x="1828800" y="2590920"/>
            <a:ext cx="1920960" cy="6858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8" descr="C:\Documents and Settings\jdempsey\Local Settings\Temporary Internet Files\Content.IE5\Q2IIA3HU\MC900434643[1].wmf"/>
          <p:cNvPicPr/>
          <p:nvPr/>
        </p:nvPicPr>
        <p:blipFill>
          <a:blip r:embed="rId4"/>
          <a:stretch/>
        </p:blipFill>
        <p:spPr>
          <a:xfrm>
            <a:off x="1828800" y="3352680"/>
            <a:ext cx="1920960" cy="68580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9" descr="C:\Documents and Settings\jdempsey\Local Settings\Temporary Internet Files\Content.IE5\VR8Q88BS\MC900434645[1].wmf"/>
          <p:cNvPicPr/>
          <p:nvPr/>
        </p:nvPicPr>
        <p:blipFill>
          <a:blip r:embed="rId5"/>
          <a:stretch/>
        </p:blipFill>
        <p:spPr>
          <a:xfrm>
            <a:off x="1828800" y="4114800"/>
            <a:ext cx="1924200" cy="6858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0" descr="C:\Documents and Settings\jdempsey\Local Settings\Temporary Internet Files\Content.IE5\IIKY0ZM5\MC900434647[1].wmf"/>
          <p:cNvPicPr/>
          <p:nvPr/>
        </p:nvPicPr>
        <p:blipFill>
          <a:blip r:embed="rId6"/>
          <a:stretch/>
        </p:blipFill>
        <p:spPr>
          <a:xfrm>
            <a:off x="5638680" y="2133720"/>
            <a:ext cx="1924200" cy="685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C:\Documents and Settings\jdempsey\Local Settings\Temporary Internet Files\Content.IE5\2FQ94MNK\MC900434649[1].wmf"/>
          <p:cNvPicPr/>
          <p:nvPr/>
        </p:nvPicPr>
        <p:blipFill>
          <a:blip r:embed="rId7"/>
          <a:stretch/>
        </p:blipFill>
        <p:spPr>
          <a:xfrm>
            <a:off x="5638680" y="2971800"/>
            <a:ext cx="1920960" cy="685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2" descr="C:\Documents and Settings\jdempsey\Local Settings\Temporary Internet Files\Content.IE5\23QZU1D4\MC900434651[1].wmf"/>
          <p:cNvPicPr/>
          <p:nvPr/>
        </p:nvPicPr>
        <p:blipFill>
          <a:blip r:embed="rId8"/>
          <a:stretch/>
        </p:blipFill>
        <p:spPr>
          <a:xfrm>
            <a:off x="5638680" y="3809880"/>
            <a:ext cx="1924200" cy="68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Box 19"/>
          <p:cNvSpPr/>
          <p:nvPr/>
        </p:nvSpPr>
        <p:spPr>
          <a:xfrm>
            <a:off x="2057400" y="2743200"/>
            <a:ext cx="510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Name the months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of the yea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795168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Picture 5" descr="C:\Documents and Settings\jdempsey\Local Settings\Temporary Internet Files\Content.IE5\2FQ94MNK\MC900434615[1].wmf"/>
          <p:cNvPicPr/>
          <p:nvPr/>
        </p:nvPicPr>
        <p:blipFill>
          <a:blip r:embed="rId2"/>
          <a:stretch/>
        </p:blipFill>
        <p:spPr>
          <a:xfrm>
            <a:off x="1523880" y="1371600"/>
            <a:ext cx="1201680" cy="63972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6" descr="C:\Documents and Settings\jdempsey\Local Settings\Temporary Internet Files\Content.IE5\IR1WC917\MC900434617[1].wmf"/>
          <p:cNvPicPr/>
          <p:nvPr/>
        </p:nvPicPr>
        <p:blipFill>
          <a:blip r:embed="rId3"/>
          <a:stretch/>
        </p:blipFill>
        <p:spPr>
          <a:xfrm>
            <a:off x="1523880" y="2209680"/>
            <a:ext cx="1201680" cy="63972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7" descr="C:\Documents and Settings\jdempsey\Local Settings\Temporary Internet Files\Content.IE5\ED8LR016\MC900434619[1].wmf"/>
          <p:cNvPicPr/>
          <p:nvPr/>
        </p:nvPicPr>
        <p:blipFill>
          <a:blip r:embed="rId4"/>
          <a:stretch/>
        </p:blipFill>
        <p:spPr>
          <a:xfrm>
            <a:off x="1523880" y="2971800"/>
            <a:ext cx="1200240" cy="63972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8" descr="C:\Documents and Settings\jdempsey\Local Settings\Temporary Internet Files\Content.IE5\23QZU1D4\MC900434621[1].wmf"/>
          <p:cNvPicPr/>
          <p:nvPr/>
        </p:nvPicPr>
        <p:blipFill>
          <a:blip r:embed="rId5"/>
          <a:stretch/>
        </p:blipFill>
        <p:spPr>
          <a:xfrm>
            <a:off x="1523880" y="3733920"/>
            <a:ext cx="1206720" cy="63972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9" descr="C:\Documents and Settings\jdempsey\Local Settings\Temporary Internet Files\Content.IE5\0EY8738R\MC900434623[1].wmf"/>
          <p:cNvPicPr/>
          <p:nvPr/>
        </p:nvPicPr>
        <p:blipFill>
          <a:blip r:embed="rId6"/>
          <a:stretch/>
        </p:blipFill>
        <p:spPr>
          <a:xfrm>
            <a:off x="1523880" y="4495680"/>
            <a:ext cx="1201680" cy="63972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10" descr="C:\Documents and Settings\jdempsey\Local Settings\Temporary Internet Files\Content.IE5\IR1WC917\MC900434625[1].wmf"/>
          <p:cNvPicPr/>
          <p:nvPr/>
        </p:nvPicPr>
        <p:blipFill>
          <a:blip r:embed="rId7"/>
          <a:stretch/>
        </p:blipFill>
        <p:spPr>
          <a:xfrm>
            <a:off x="1523880" y="5334120"/>
            <a:ext cx="1204920" cy="6397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1" descr="C:\Documents and Settings\jdempsey\Local Settings\Temporary Internet Files\Content.IE5\0EY8738R\MC900434629[1].wmf"/>
          <p:cNvPicPr/>
          <p:nvPr/>
        </p:nvPicPr>
        <p:blipFill>
          <a:blip r:embed="rId8"/>
          <a:stretch/>
        </p:blipFill>
        <p:spPr>
          <a:xfrm>
            <a:off x="4191120" y="2133720"/>
            <a:ext cx="1199880" cy="63972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2" descr="C:\Documents and Settings\jdempsey\Local Settings\Temporary Internet Files\Content.IE5\2FQ94MNK\MC900434631[1].wmf"/>
          <p:cNvPicPr/>
          <p:nvPr/>
        </p:nvPicPr>
        <p:blipFill>
          <a:blip r:embed="rId9"/>
          <a:stretch/>
        </p:blipFill>
        <p:spPr>
          <a:xfrm>
            <a:off x="4191120" y="2971800"/>
            <a:ext cx="1199880" cy="63972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3" descr="C:\Documents and Settings\jdempsey\Local Settings\Temporary Internet Files\Content.IE5\IIKY0ZM5\MC900434633[2].wmf"/>
          <p:cNvPicPr/>
          <p:nvPr/>
        </p:nvPicPr>
        <p:blipFill>
          <a:blip r:embed="rId10"/>
          <a:stretch/>
        </p:blipFill>
        <p:spPr>
          <a:xfrm>
            <a:off x="4114800" y="3809880"/>
            <a:ext cx="1206360" cy="63972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14" descr="C:\Documents and Settings\jdempsey\Local Settings\Temporary Internet Files\Content.IE5\ED8LR016\MC900434635[1].wmf"/>
          <p:cNvPicPr/>
          <p:nvPr/>
        </p:nvPicPr>
        <p:blipFill>
          <a:blip r:embed="rId11"/>
          <a:stretch/>
        </p:blipFill>
        <p:spPr>
          <a:xfrm>
            <a:off x="4114800" y="4572000"/>
            <a:ext cx="1200240" cy="63972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5" descr="C:\Documents and Settings\jdempsey\Local Settings\Temporary Internet Files\Content.IE5\Q2IIA3HU\MC900434637[1].wmf"/>
          <p:cNvPicPr/>
          <p:nvPr/>
        </p:nvPicPr>
        <p:blipFill>
          <a:blip r:embed="rId12"/>
          <a:stretch/>
        </p:blipFill>
        <p:spPr>
          <a:xfrm>
            <a:off x="4114800" y="5334120"/>
            <a:ext cx="1201680" cy="63972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16" descr="C:\Documents and Settings\jdempsey\Local Settings\Temporary Internet Files\Content.IE5\ED8LR016\MC900434627[1].wmf"/>
          <p:cNvPicPr/>
          <p:nvPr/>
        </p:nvPicPr>
        <p:blipFill>
          <a:blip r:embed="rId13"/>
          <a:stretch/>
        </p:blipFill>
        <p:spPr>
          <a:xfrm>
            <a:off x="4191120" y="1295280"/>
            <a:ext cx="1204920" cy="6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Box 19"/>
          <p:cNvSpPr/>
          <p:nvPr/>
        </p:nvSpPr>
        <p:spPr>
          <a:xfrm>
            <a:off x="2057400" y="27432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are the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four seasons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TextBox 6"/>
          <p:cNvSpPr/>
          <p:nvPr/>
        </p:nvSpPr>
        <p:spPr>
          <a:xfrm>
            <a:off x="2895480" y="53352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Box 19"/>
          <p:cNvSpPr/>
          <p:nvPr/>
        </p:nvSpPr>
        <p:spPr>
          <a:xfrm>
            <a:off x="2057400" y="2743200"/>
            <a:ext cx="51055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Summer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Spr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inter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	</a:t>
            </a: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F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Picture 5" descr="C:\Documents and Settings\jdempsey\Local Settings\Temporary Internet Files\Content.IE5\IIKY0ZM5\MC900021629[1].wmf"/>
          <p:cNvPicPr/>
          <p:nvPr/>
        </p:nvPicPr>
        <p:blipFill>
          <a:blip r:embed="rId2"/>
          <a:stretch/>
        </p:blipFill>
        <p:spPr>
          <a:xfrm>
            <a:off x="3429000" y="2362320"/>
            <a:ext cx="1219320" cy="11952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:\Documents and Settings\jdempsey\Local Settings\Temporary Internet Files\Content.IE5\0EY8738R\MC900446222[1].wmf"/>
          <p:cNvPicPr/>
          <p:nvPr/>
        </p:nvPicPr>
        <p:blipFill>
          <a:blip r:embed="rId3"/>
          <a:stretch/>
        </p:blipFill>
        <p:spPr>
          <a:xfrm>
            <a:off x="7162920" y="2438280"/>
            <a:ext cx="718920" cy="1173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9" descr="C:\Documents and Settings\jdempsey\Local Settings\Temporary Internet Files\Content.IE5\23QZU1D4\MC900019670[1].wmf"/>
          <p:cNvPicPr/>
          <p:nvPr/>
        </p:nvPicPr>
        <p:blipFill>
          <a:blip r:embed="rId4"/>
          <a:stretch/>
        </p:blipFill>
        <p:spPr>
          <a:xfrm>
            <a:off x="6629400" y="4419720"/>
            <a:ext cx="984240" cy="84924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1" descr="C:\Documents and Settings\jdempsey\Local Settings\Temporary Internet Files\Content.IE5\ED8LR016\MC900355771[2].wmf"/>
          <p:cNvPicPr/>
          <p:nvPr/>
        </p:nvPicPr>
        <p:blipFill>
          <a:blip r:embed="rId5"/>
          <a:stretch/>
        </p:blipFill>
        <p:spPr>
          <a:xfrm>
            <a:off x="3276720" y="4114800"/>
            <a:ext cx="1085760" cy="13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2" descr="screenj"/>
          <p:cNvPicPr/>
          <p:nvPr/>
        </p:nvPicPr>
        <p:blipFill>
          <a:blip r:embed="rId1"/>
          <a:stretch/>
        </p:blipFill>
        <p:spPr>
          <a:xfrm>
            <a:off x="109440" y="1889280"/>
            <a:ext cx="1408320" cy="1128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0" descr="screenj"/>
          <p:cNvPicPr/>
          <p:nvPr/>
        </p:nvPicPr>
        <p:blipFill>
          <a:blip r:embed="rId2"/>
          <a:stretch/>
        </p:blipFill>
        <p:spPr>
          <a:xfrm>
            <a:off x="1603440" y="188928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1"/>
          <p:cNvSpPr/>
          <p:nvPr/>
        </p:nvSpPr>
        <p:spPr>
          <a:xfrm>
            <a:off x="1766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102" descr="blue"/>
          <p:cNvPicPr/>
          <p:nvPr/>
        </p:nvPicPr>
        <p:blipFill>
          <a:blip r:embed="rId4"/>
          <a:stretch/>
        </p:blipFill>
        <p:spPr>
          <a:xfrm>
            <a:off x="1828800" y="2535120"/>
            <a:ext cx="1042920" cy="2145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3" descr="screenj"/>
          <p:cNvPicPr/>
          <p:nvPr/>
        </p:nvPicPr>
        <p:blipFill>
          <a:blip r:embed="rId5"/>
          <a:stretch/>
        </p:blipFill>
        <p:spPr>
          <a:xfrm>
            <a:off x="3127320" y="188928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58" name="Text Box 104"/>
          <p:cNvSpPr/>
          <p:nvPr/>
        </p:nvSpPr>
        <p:spPr>
          <a:xfrm>
            <a:off x="3290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5" descr="blue"/>
          <p:cNvPicPr/>
          <p:nvPr/>
        </p:nvPicPr>
        <p:blipFill>
          <a:blip r:embed="rId7"/>
          <a:stretch/>
        </p:blipFill>
        <p:spPr>
          <a:xfrm>
            <a:off x="3352680" y="2535120"/>
            <a:ext cx="1043280" cy="2145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06" descr="screenj"/>
          <p:cNvPicPr/>
          <p:nvPr/>
        </p:nvPicPr>
        <p:blipFill>
          <a:blip r:embed="rId8"/>
          <a:stretch/>
        </p:blipFill>
        <p:spPr>
          <a:xfrm>
            <a:off x="4651200" y="1889280"/>
            <a:ext cx="1414800" cy="11286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107"/>
          <p:cNvSpPr/>
          <p:nvPr/>
        </p:nvSpPr>
        <p:spPr>
          <a:xfrm>
            <a:off x="481500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9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8" descr="blue"/>
          <p:cNvPicPr/>
          <p:nvPr/>
        </p:nvPicPr>
        <p:blipFill>
          <a:blip r:embed="rId10"/>
          <a:stretch/>
        </p:blipFill>
        <p:spPr>
          <a:xfrm>
            <a:off x="4876920" y="2535120"/>
            <a:ext cx="1042920" cy="2145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9" descr="screenj"/>
          <p:cNvPicPr/>
          <p:nvPr/>
        </p:nvPicPr>
        <p:blipFill>
          <a:blip r:embed="rId11"/>
          <a:stretch/>
        </p:blipFill>
        <p:spPr>
          <a:xfrm>
            <a:off x="6175440" y="188928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0"/>
          <p:cNvSpPr/>
          <p:nvPr/>
        </p:nvSpPr>
        <p:spPr>
          <a:xfrm>
            <a:off x="6338880" y="21621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2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111" descr="blue"/>
          <p:cNvPicPr/>
          <p:nvPr/>
        </p:nvPicPr>
        <p:blipFill>
          <a:blip r:embed="rId13"/>
          <a:stretch/>
        </p:blipFill>
        <p:spPr>
          <a:xfrm>
            <a:off x="6400800" y="2535120"/>
            <a:ext cx="1042920" cy="21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2" descr="screenj"/>
          <p:cNvPicPr/>
          <p:nvPr/>
        </p:nvPicPr>
        <p:blipFill>
          <a:blip r:embed="rId14"/>
          <a:stretch/>
        </p:blipFill>
        <p:spPr>
          <a:xfrm>
            <a:off x="7699320" y="188928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3"/>
          <p:cNvSpPr/>
          <p:nvPr/>
        </p:nvSpPr>
        <p:spPr>
          <a:xfrm>
            <a:off x="7862760" y="21621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5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14" descr="blue"/>
          <p:cNvPicPr/>
          <p:nvPr/>
        </p:nvPicPr>
        <p:blipFill>
          <a:blip r:embed="rId16"/>
          <a:stretch/>
        </p:blipFill>
        <p:spPr>
          <a:xfrm>
            <a:off x="7924680" y="2535120"/>
            <a:ext cx="1043280" cy="2145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5" descr="screenj"/>
          <p:cNvPicPr/>
          <p:nvPr/>
        </p:nvPicPr>
        <p:blipFill>
          <a:blip r:embed="rId17"/>
          <a:stretch/>
        </p:blipFill>
        <p:spPr>
          <a:xfrm>
            <a:off x="109440" y="2882880"/>
            <a:ext cx="1408320" cy="11224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16"/>
          <p:cNvSpPr/>
          <p:nvPr/>
        </p:nvSpPr>
        <p:spPr>
          <a:xfrm>
            <a:off x="27144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8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117" descr="blue"/>
          <p:cNvPicPr/>
          <p:nvPr/>
        </p:nvPicPr>
        <p:blipFill>
          <a:blip r:embed="rId19"/>
          <a:stretch/>
        </p:blipFill>
        <p:spPr>
          <a:xfrm>
            <a:off x="334800" y="3529080"/>
            <a:ext cx="1036800" cy="214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8" descr="screenj"/>
          <p:cNvPicPr/>
          <p:nvPr/>
        </p:nvPicPr>
        <p:blipFill>
          <a:blip r:embed="rId20"/>
          <a:stretch/>
        </p:blipFill>
        <p:spPr>
          <a:xfrm>
            <a:off x="1603440" y="288288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73" name="Text Box 119"/>
          <p:cNvSpPr/>
          <p:nvPr/>
        </p:nvSpPr>
        <p:spPr>
          <a:xfrm>
            <a:off x="1766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1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Picture 120" descr="blue"/>
          <p:cNvPicPr/>
          <p:nvPr/>
        </p:nvPicPr>
        <p:blipFill>
          <a:blip r:embed="rId22"/>
          <a:stretch/>
        </p:blipFill>
        <p:spPr>
          <a:xfrm>
            <a:off x="1828800" y="352908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1" descr="screenj"/>
          <p:cNvPicPr/>
          <p:nvPr/>
        </p:nvPicPr>
        <p:blipFill>
          <a:blip r:embed="rId23"/>
          <a:stretch/>
        </p:blipFill>
        <p:spPr>
          <a:xfrm>
            <a:off x="3127320" y="288288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22"/>
          <p:cNvSpPr/>
          <p:nvPr/>
        </p:nvSpPr>
        <p:spPr>
          <a:xfrm>
            <a:off x="3290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4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23" descr="blue"/>
          <p:cNvPicPr/>
          <p:nvPr/>
        </p:nvPicPr>
        <p:blipFill>
          <a:blip r:embed="rId25"/>
          <a:stretch/>
        </p:blipFill>
        <p:spPr>
          <a:xfrm>
            <a:off x="3352680" y="352908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24" descr="screenj"/>
          <p:cNvPicPr/>
          <p:nvPr/>
        </p:nvPicPr>
        <p:blipFill>
          <a:blip r:embed="rId26"/>
          <a:stretch/>
        </p:blipFill>
        <p:spPr>
          <a:xfrm>
            <a:off x="4651200" y="2882880"/>
            <a:ext cx="1414800" cy="112248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5"/>
          <p:cNvSpPr/>
          <p:nvPr/>
        </p:nvSpPr>
        <p:spPr>
          <a:xfrm>
            <a:off x="481500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27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126" descr="blue"/>
          <p:cNvPicPr/>
          <p:nvPr/>
        </p:nvPicPr>
        <p:blipFill>
          <a:blip r:embed="rId28"/>
          <a:stretch/>
        </p:blipFill>
        <p:spPr>
          <a:xfrm>
            <a:off x="4876920" y="352908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7" descr="screenj"/>
          <p:cNvPicPr/>
          <p:nvPr/>
        </p:nvPicPr>
        <p:blipFill>
          <a:blip r:embed="rId29"/>
          <a:stretch/>
        </p:blipFill>
        <p:spPr>
          <a:xfrm>
            <a:off x="6175440" y="288288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28"/>
          <p:cNvSpPr/>
          <p:nvPr/>
        </p:nvSpPr>
        <p:spPr>
          <a:xfrm>
            <a:off x="6338880" y="31528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0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Picture 129" descr="blue"/>
          <p:cNvPicPr/>
          <p:nvPr/>
        </p:nvPicPr>
        <p:blipFill>
          <a:blip r:embed="rId31"/>
          <a:stretch/>
        </p:blipFill>
        <p:spPr>
          <a:xfrm>
            <a:off x="6400800" y="352908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30" descr="screenj"/>
          <p:cNvPicPr/>
          <p:nvPr/>
        </p:nvPicPr>
        <p:blipFill>
          <a:blip r:embed="rId32"/>
          <a:stretch/>
        </p:blipFill>
        <p:spPr>
          <a:xfrm>
            <a:off x="7699320" y="288288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31"/>
          <p:cNvSpPr/>
          <p:nvPr/>
        </p:nvSpPr>
        <p:spPr>
          <a:xfrm>
            <a:off x="7862760" y="31528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3" action="ppaction://hlinksldjump"/>
              </a:rPr>
              <a:t>2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32" descr="blue"/>
          <p:cNvPicPr/>
          <p:nvPr/>
        </p:nvPicPr>
        <p:blipFill>
          <a:blip r:embed="rId34"/>
          <a:stretch/>
        </p:blipFill>
        <p:spPr>
          <a:xfrm>
            <a:off x="7924680" y="352908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33" descr="screenj"/>
          <p:cNvPicPr/>
          <p:nvPr/>
        </p:nvPicPr>
        <p:blipFill>
          <a:blip r:embed="rId35"/>
          <a:stretch/>
        </p:blipFill>
        <p:spPr>
          <a:xfrm>
            <a:off x="109440" y="3870360"/>
            <a:ext cx="1408320" cy="1128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34"/>
          <p:cNvSpPr/>
          <p:nvPr/>
        </p:nvSpPr>
        <p:spPr>
          <a:xfrm>
            <a:off x="27144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6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135" descr="blue"/>
          <p:cNvPicPr/>
          <p:nvPr/>
        </p:nvPicPr>
        <p:blipFill>
          <a:blip r:embed="rId37"/>
          <a:stretch/>
        </p:blipFill>
        <p:spPr>
          <a:xfrm>
            <a:off x="334800" y="4516560"/>
            <a:ext cx="1036800" cy="214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36" descr="screenj"/>
          <p:cNvPicPr/>
          <p:nvPr/>
        </p:nvPicPr>
        <p:blipFill>
          <a:blip r:embed="rId38"/>
          <a:stretch/>
        </p:blipFill>
        <p:spPr>
          <a:xfrm>
            <a:off x="1603440" y="387036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91" name="Text Box 137"/>
          <p:cNvSpPr/>
          <p:nvPr/>
        </p:nvSpPr>
        <p:spPr>
          <a:xfrm>
            <a:off x="1766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39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138" descr="blue"/>
          <p:cNvPicPr/>
          <p:nvPr/>
        </p:nvPicPr>
        <p:blipFill>
          <a:blip r:embed="rId40"/>
          <a:stretch/>
        </p:blipFill>
        <p:spPr>
          <a:xfrm>
            <a:off x="1828800" y="451656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39" descr="screenj"/>
          <p:cNvPicPr/>
          <p:nvPr/>
        </p:nvPicPr>
        <p:blipFill>
          <a:blip r:embed="rId41"/>
          <a:stretch/>
        </p:blipFill>
        <p:spPr>
          <a:xfrm>
            <a:off x="3127320" y="387036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140"/>
          <p:cNvSpPr/>
          <p:nvPr/>
        </p:nvSpPr>
        <p:spPr>
          <a:xfrm>
            <a:off x="3290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2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141" descr="blue"/>
          <p:cNvPicPr/>
          <p:nvPr/>
        </p:nvPicPr>
        <p:blipFill>
          <a:blip r:embed="rId43"/>
          <a:stretch/>
        </p:blipFill>
        <p:spPr>
          <a:xfrm>
            <a:off x="3352680" y="451656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42" descr="screenj"/>
          <p:cNvPicPr/>
          <p:nvPr/>
        </p:nvPicPr>
        <p:blipFill>
          <a:blip r:embed="rId44"/>
          <a:stretch/>
        </p:blipFill>
        <p:spPr>
          <a:xfrm>
            <a:off x="4651200" y="3870360"/>
            <a:ext cx="1414800" cy="11286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3"/>
          <p:cNvSpPr/>
          <p:nvPr/>
        </p:nvSpPr>
        <p:spPr>
          <a:xfrm>
            <a:off x="481500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5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144" descr="blue"/>
          <p:cNvPicPr/>
          <p:nvPr/>
        </p:nvPicPr>
        <p:blipFill>
          <a:blip r:embed="rId46"/>
          <a:stretch/>
        </p:blipFill>
        <p:spPr>
          <a:xfrm>
            <a:off x="4876920" y="451656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45" descr="screenj"/>
          <p:cNvPicPr/>
          <p:nvPr/>
        </p:nvPicPr>
        <p:blipFill>
          <a:blip r:embed="rId47"/>
          <a:stretch/>
        </p:blipFill>
        <p:spPr>
          <a:xfrm>
            <a:off x="6175440" y="387036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146"/>
          <p:cNvSpPr/>
          <p:nvPr/>
        </p:nvSpPr>
        <p:spPr>
          <a:xfrm>
            <a:off x="6338880" y="414324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48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147" descr="blue"/>
          <p:cNvPicPr/>
          <p:nvPr/>
        </p:nvPicPr>
        <p:blipFill>
          <a:blip r:embed="rId49"/>
          <a:stretch/>
        </p:blipFill>
        <p:spPr>
          <a:xfrm>
            <a:off x="6400800" y="451656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148" descr="screenj"/>
          <p:cNvPicPr/>
          <p:nvPr/>
        </p:nvPicPr>
        <p:blipFill>
          <a:blip r:embed="rId50"/>
          <a:stretch/>
        </p:blipFill>
        <p:spPr>
          <a:xfrm>
            <a:off x="7699320" y="3870360"/>
            <a:ext cx="1414440" cy="112860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149"/>
          <p:cNvSpPr/>
          <p:nvPr/>
        </p:nvSpPr>
        <p:spPr>
          <a:xfrm>
            <a:off x="7862760" y="414324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1" action="ppaction://hlinksldjump"/>
              </a:rPr>
              <a:t>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150" descr="blue"/>
          <p:cNvPicPr/>
          <p:nvPr/>
        </p:nvPicPr>
        <p:blipFill>
          <a:blip r:embed="rId52"/>
          <a:stretch/>
        </p:blipFill>
        <p:spPr>
          <a:xfrm>
            <a:off x="7924680" y="451656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51" descr="screenj"/>
          <p:cNvPicPr/>
          <p:nvPr/>
        </p:nvPicPr>
        <p:blipFill>
          <a:blip r:embed="rId53"/>
          <a:stretch/>
        </p:blipFill>
        <p:spPr>
          <a:xfrm>
            <a:off x="109440" y="4863960"/>
            <a:ext cx="1408320" cy="11224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2"/>
          <p:cNvSpPr/>
          <p:nvPr/>
        </p:nvSpPr>
        <p:spPr>
          <a:xfrm>
            <a:off x="27144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4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153" descr="blue"/>
          <p:cNvPicPr/>
          <p:nvPr/>
        </p:nvPicPr>
        <p:blipFill>
          <a:blip r:embed="rId55"/>
          <a:stretch/>
        </p:blipFill>
        <p:spPr>
          <a:xfrm>
            <a:off x="334800" y="5510160"/>
            <a:ext cx="1036800" cy="2142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54" descr="screenj"/>
          <p:cNvPicPr/>
          <p:nvPr/>
        </p:nvPicPr>
        <p:blipFill>
          <a:blip r:embed="rId56"/>
          <a:stretch/>
        </p:blipFill>
        <p:spPr>
          <a:xfrm>
            <a:off x="1603440" y="486396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55"/>
          <p:cNvSpPr/>
          <p:nvPr/>
        </p:nvSpPr>
        <p:spPr>
          <a:xfrm>
            <a:off x="1766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57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156" descr="blue"/>
          <p:cNvPicPr/>
          <p:nvPr/>
        </p:nvPicPr>
        <p:blipFill>
          <a:blip r:embed="rId58"/>
          <a:stretch/>
        </p:blipFill>
        <p:spPr>
          <a:xfrm>
            <a:off x="1828800" y="551016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57" descr="screenj"/>
          <p:cNvPicPr/>
          <p:nvPr/>
        </p:nvPicPr>
        <p:blipFill>
          <a:blip r:embed="rId59"/>
          <a:stretch/>
        </p:blipFill>
        <p:spPr>
          <a:xfrm>
            <a:off x="3127320" y="486396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58"/>
          <p:cNvSpPr/>
          <p:nvPr/>
        </p:nvSpPr>
        <p:spPr>
          <a:xfrm>
            <a:off x="3290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0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159" descr="blue"/>
          <p:cNvPicPr/>
          <p:nvPr/>
        </p:nvPicPr>
        <p:blipFill>
          <a:blip r:embed="rId61"/>
          <a:stretch/>
        </p:blipFill>
        <p:spPr>
          <a:xfrm>
            <a:off x="3352680" y="551016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0" descr="screenj"/>
          <p:cNvPicPr/>
          <p:nvPr/>
        </p:nvPicPr>
        <p:blipFill>
          <a:blip r:embed="rId62"/>
          <a:stretch/>
        </p:blipFill>
        <p:spPr>
          <a:xfrm>
            <a:off x="4651200" y="4863960"/>
            <a:ext cx="1414800" cy="11224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61"/>
          <p:cNvSpPr/>
          <p:nvPr/>
        </p:nvSpPr>
        <p:spPr>
          <a:xfrm>
            <a:off x="481500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3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162" descr="blue"/>
          <p:cNvPicPr/>
          <p:nvPr/>
        </p:nvPicPr>
        <p:blipFill>
          <a:blip r:embed="rId64"/>
          <a:stretch/>
        </p:blipFill>
        <p:spPr>
          <a:xfrm>
            <a:off x="4876920" y="551016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63" descr="screenj"/>
          <p:cNvPicPr/>
          <p:nvPr/>
        </p:nvPicPr>
        <p:blipFill>
          <a:blip r:embed="rId65"/>
          <a:stretch/>
        </p:blipFill>
        <p:spPr>
          <a:xfrm>
            <a:off x="6175440" y="486396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64"/>
          <p:cNvSpPr/>
          <p:nvPr/>
        </p:nvSpPr>
        <p:spPr>
          <a:xfrm>
            <a:off x="6338880" y="513396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6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Picture 165" descr="blue"/>
          <p:cNvPicPr/>
          <p:nvPr/>
        </p:nvPicPr>
        <p:blipFill>
          <a:blip r:embed="rId67"/>
          <a:stretch/>
        </p:blipFill>
        <p:spPr>
          <a:xfrm>
            <a:off x="6400800" y="551016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66" descr="screenj"/>
          <p:cNvPicPr/>
          <p:nvPr/>
        </p:nvPicPr>
        <p:blipFill>
          <a:blip r:embed="rId68"/>
          <a:stretch/>
        </p:blipFill>
        <p:spPr>
          <a:xfrm>
            <a:off x="7699320" y="486396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167"/>
          <p:cNvSpPr/>
          <p:nvPr/>
        </p:nvSpPr>
        <p:spPr>
          <a:xfrm>
            <a:off x="7862760" y="513396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69" action="ppaction://hlinksldjump"/>
              </a:rPr>
              <a:t>4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168" descr="blue"/>
          <p:cNvPicPr/>
          <p:nvPr/>
        </p:nvPicPr>
        <p:blipFill>
          <a:blip r:embed="rId70"/>
          <a:stretch/>
        </p:blipFill>
        <p:spPr>
          <a:xfrm>
            <a:off x="7924680" y="551016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69" descr="screenj"/>
          <p:cNvPicPr/>
          <p:nvPr/>
        </p:nvPicPr>
        <p:blipFill>
          <a:blip r:embed="rId71"/>
          <a:stretch/>
        </p:blipFill>
        <p:spPr>
          <a:xfrm>
            <a:off x="109440" y="5851440"/>
            <a:ext cx="1408320" cy="112896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70"/>
          <p:cNvSpPr/>
          <p:nvPr/>
        </p:nvSpPr>
        <p:spPr>
          <a:xfrm>
            <a:off x="30492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2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171" descr="blue"/>
          <p:cNvPicPr/>
          <p:nvPr/>
        </p:nvPicPr>
        <p:blipFill>
          <a:blip r:embed="rId73"/>
          <a:stretch/>
        </p:blipFill>
        <p:spPr>
          <a:xfrm>
            <a:off x="334800" y="6497640"/>
            <a:ext cx="1036800" cy="214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2" descr="screenj"/>
          <p:cNvPicPr/>
          <p:nvPr/>
        </p:nvPicPr>
        <p:blipFill>
          <a:blip r:embed="rId74"/>
          <a:stretch/>
        </p:blipFill>
        <p:spPr>
          <a:xfrm>
            <a:off x="1603440" y="5851440"/>
            <a:ext cx="1414440" cy="112896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73"/>
          <p:cNvSpPr/>
          <p:nvPr/>
        </p:nvSpPr>
        <p:spPr>
          <a:xfrm>
            <a:off x="1766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5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Picture 174" descr="blue"/>
          <p:cNvPicPr/>
          <p:nvPr/>
        </p:nvPicPr>
        <p:blipFill>
          <a:blip r:embed="rId76"/>
          <a:stretch/>
        </p:blipFill>
        <p:spPr>
          <a:xfrm>
            <a:off x="1828800" y="649764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5" descr="screenj"/>
          <p:cNvPicPr/>
          <p:nvPr/>
        </p:nvPicPr>
        <p:blipFill>
          <a:blip r:embed="rId77"/>
          <a:stretch/>
        </p:blipFill>
        <p:spPr>
          <a:xfrm>
            <a:off x="3127320" y="5851440"/>
            <a:ext cx="1414440" cy="1128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176"/>
          <p:cNvSpPr/>
          <p:nvPr/>
        </p:nvSpPr>
        <p:spPr>
          <a:xfrm>
            <a:off x="3290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78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177" descr="blue"/>
          <p:cNvPicPr/>
          <p:nvPr/>
        </p:nvPicPr>
        <p:blipFill>
          <a:blip r:embed="rId79"/>
          <a:stretch/>
        </p:blipFill>
        <p:spPr>
          <a:xfrm>
            <a:off x="3352680" y="649764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78" descr="screenj"/>
          <p:cNvPicPr/>
          <p:nvPr/>
        </p:nvPicPr>
        <p:blipFill>
          <a:blip r:embed="rId80"/>
          <a:stretch/>
        </p:blipFill>
        <p:spPr>
          <a:xfrm>
            <a:off x="4651200" y="5851440"/>
            <a:ext cx="1414800" cy="11289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179"/>
          <p:cNvSpPr/>
          <p:nvPr/>
        </p:nvSpPr>
        <p:spPr>
          <a:xfrm>
            <a:off x="481500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1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180" descr="blue"/>
          <p:cNvPicPr/>
          <p:nvPr/>
        </p:nvPicPr>
        <p:blipFill>
          <a:blip r:embed="rId82"/>
          <a:stretch/>
        </p:blipFill>
        <p:spPr>
          <a:xfrm>
            <a:off x="4876920" y="649764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81" descr="screenj"/>
          <p:cNvPicPr/>
          <p:nvPr/>
        </p:nvPicPr>
        <p:blipFill>
          <a:blip r:embed="rId83"/>
          <a:stretch/>
        </p:blipFill>
        <p:spPr>
          <a:xfrm>
            <a:off x="6175440" y="5851440"/>
            <a:ext cx="1414440" cy="112896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182"/>
          <p:cNvSpPr/>
          <p:nvPr/>
        </p:nvSpPr>
        <p:spPr>
          <a:xfrm>
            <a:off x="6338880" y="6124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4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183" descr="blue"/>
          <p:cNvPicPr/>
          <p:nvPr/>
        </p:nvPicPr>
        <p:blipFill>
          <a:blip r:embed="rId85"/>
          <a:stretch/>
        </p:blipFill>
        <p:spPr>
          <a:xfrm>
            <a:off x="6400800" y="6497640"/>
            <a:ext cx="1042920" cy="2142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84" descr="screenj"/>
          <p:cNvPicPr/>
          <p:nvPr/>
        </p:nvPicPr>
        <p:blipFill>
          <a:blip r:embed="rId86"/>
          <a:stretch/>
        </p:blipFill>
        <p:spPr>
          <a:xfrm>
            <a:off x="7699320" y="5851440"/>
            <a:ext cx="1414440" cy="11289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85"/>
          <p:cNvSpPr/>
          <p:nvPr/>
        </p:nvSpPr>
        <p:spPr>
          <a:xfrm>
            <a:off x="7862760" y="6124680"/>
            <a:ext cx="105912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87" action="ppaction://hlinksldjump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186" descr="blue"/>
          <p:cNvPicPr/>
          <p:nvPr/>
        </p:nvPicPr>
        <p:blipFill>
          <a:blip r:embed="rId88"/>
          <a:stretch/>
        </p:blipFill>
        <p:spPr>
          <a:xfrm>
            <a:off x="7924680" y="6497640"/>
            <a:ext cx="1043280" cy="2142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87" descr="screenj"/>
          <p:cNvPicPr/>
          <p:nvPr/>
        </p:nvPicPr>
        <p:blipFill>
          <a:blip r:embed="rId89"/>
          <a:stretch/>
        </p:blipFill>
        <p:spPr>
          <a:xfrm>
            <a:off x="109440" y="871560"/>
            <a:ext cx="1408320" cy="1122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90" descr="screenj"/>
          <p:cNvPicPr/>
          <p:nvPr/>
        </p:nvPicPr>
        <p:blipFill>
          <a:blip r:embed="rId90"/>
          <a:stretch/>
        </p:blipFill>
        <p:spPr>
          <a:xfrm>
            <a:off x="1603440" y="871560"/>
            <a:ext cx="1414440" cy="11224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93" descr="screenj"/>
          <p:cNvPicPr/>
          <p:nvPr/>
        </p:nvPicPr>
        <p:blipFill>
          <a:blip r:embed="rId91"/>
          <a:stretch/>
        </p:blipFill>
        <p:spPr>
          <a:xfrm>
            <a:off x="3127320" y="871560"/>
            <a:ext cx="1414440" cy="11224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96" descr="screenj"/>
          <p:cNvPicPr/>
          <p:nvPr/>
        </p:nvPicPr>
        <p:blipFill>
          <a:blip r:embed="rId92"/>
          <a:stretch/>
        </p:blipFill>
        <p:spPr>
          <a:xfrm>
            <a:off x="4651200" y="871560"/>
            <a:ext cx="1414800" cy="11224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99" descr="screenj"/>
          <p:cNvPicPr/>
          <p:nvPr/>
        </p:nvPicPr>
        <p:blipFill>
          <a:blip r:embed="rId93"/>
          <a:stretch/>
        </p:blipFill>
        <p:spPr>
          <a:xfrm>
            <a:off x="6175440" y="871560"/>
            <a:ext cx="1414440" cy="11224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202" descr="screenj"/>
          <p:cNvPicPr/>
          <p:nvPr/>
        </p:nvPicPr>
        <p:blipFill>
          <a:blip r:embed="rId94"/>
          <a:stretch/>
        </p:blipFill>
        <p:spPr>
          <a:xfrm>
            <a:off x="7699320" y="871560"/>
            <a:ext cx="1414440" cy="11224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205"/>
          <p:cNvSpPr/>
          <p:nvPr/>
        </p:nvSpPr>
        <p:spPr>
          <a:xfrm>
            <a:off x="76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6"/>
          <p:cNvSpPr/>
          <p:nvPr/>
        </p:nvSpPr>
        <p:spPr>
          <a:xfrm>
            <a:off x="160020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hap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207"/>
          <p:cNvSpPr/>
          <p:nvPr/>
        </p:nvSpPr>
        <p:spPr>
          <a:xfrm>
            <a:off x="3124080" y="1219320"/>
            <a:ext cx="14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Calen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08"/>
          <p:cNvSpPr/>
          <p:nvPr/>
        </p:nvSpPr>
        <p:spPr>
          <a:xfrm>
            <a:off x="464832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209"/>
          <p:cNvSpPr/>
          <p:nvPr/>
        </p:nvSpPr>
        <p:spPr>
          <a:xfrm>
            <a:off x="6172200" y="1219320"/>
            <a:ext cx="144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Stor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Probl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210"/>
          <p:cNvSpPr/>
          <p:nvPr/>
        </p:nvSpPr>
        <p:spPr>
          <a:xfrm>
            <a:off x="7743960" y="1219320"/>
            <a:ext cx="144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</a:rPr>
              <a:t>Bon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17" descr="applause">
            <a:hlinkClick r:id="rId95"/>
          </p:cNvPr>
          <p:cNvPicPr/>
          <p:nvPr/>
        </p:nvPicPr>
        <p:blipFill>
          <a:blip r:embed="rId96"/>
          <a:stretch/>
        </p:blipFill>
        <p:spPr>
          <a:xfrm>
            <a:off x="225360" y="225360"/>
            <a:ext cx="927000" cy="560520"/>
          </a:xfrm>
          <a:prstGeom prst="rect">
            <a:avLst/>
          </a:prstGeom>
          <a:ln w="0">
            <a:noFill/>
          </a:ln>
        </p:spPr>
      </p:pic>
      <p:pic>
        <p:nvPicPr>
          <p:cNvPr id="154" name="Rectangle 106" descr=""/>
          <p:cNvPicPr/>
          <p:nvPr/>
        </p:nvPicPr>
        <p:blipFill>
          <a:blip r:embed="rId97"/>
          <a:stretch/>
        </p:blipFill>
        <p:spPr>
          <a:xfrm>
            <a:off x="1365120" y="-176040"/>
            <a:ext cx="5956560" cy="1109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17" descr="applause">
            <a:hlinkClick r:id="rId98"/>
          </p:cNvPr>
          <p:cNvPicPr/>
          <p:nvPr/>
        </p:nvPicPr>
        <p:blipFill>
          <a:blip r:embed="rId99"/>
          <a:stretch/>
        </p:blipFill>
        <p:spPr>
          <a:xfrm>
            <a:off x="7918560" y="225360"/>
            <a:ext cx="927000" cy="5605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101">
            <a:hlinkClick r:id="rId100" action="ppaction://hlinksldjump"/>
          </p:cNvPr>
          <p:cNvSpPr/>
          <p:nvPr/>
        </p:nvSpPr>
        <p:spPr>
          <a:xfrm>
            <a:off x="304920" y="2209680"/>
            <a:ext cx="10587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 Black"/>
                <a:hlinkClick r:id="rId101" action="ppaction://hlinksldjump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Box 19"/>
          <p:cNvSpPr/>
          <p:nvPr/>
        </p:nvSpPr>
        <p:spPr>
          <a:xfrm>
            <a:off x="2057400" y="2743200"/>
            <a:ext cx="5105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day comes after Saturday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2" name="Picture 5" descr="C:\Documents and Settings\jdempsey\Local Settings\Temporary Internet Files\Content.IE5\IIKY0ZM5\MC900434639[1].wmf"/>
          <p:cNvPicPr/>
          <p:nvPr/>
        </p:nvPicPr>
        <p:blipFill>
          <a:blip r:embed="rId2"/>
          <a:stretch/>
        </p:blipFill>
        <p:spPr>
          <a:xfrm>
            <a:off x="2971800" y="2819520"/>
            <a:ext cx="3429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4"/>
          <p:cNvSpPr/>
          <p:nvPr/>
        </p:nvSpPr>
        <p:spPr>
          <a:xfrm>
            <a:off x="831672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Box 19"/>
          <p:cNvSpPr/>
          <p:nvPr/>
        </p:nvSpPr>
        <p:spPr>
          <a:xfrm>
            <a:off x="2057400" y="2743200"/>
            <a:ext cx="51055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What month comes after September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4"/>
          <p:cNvSpPr/>
          <p:nvPr/>
        </p:nvSpPr>
        <p:spPr>
          <a:xfrm>
            <a:off x="835488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Box 6"/>
          <p:cNvSpPr/>
          <p:nvPr/>
        </p:nvSpPr>
        <p:spPr>
          <a:xfrm>
            <a:off x="2895480" y="53352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Calenda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C:\Documents and Settings\jdempsey\Local Settings\Temporary Internet Files\Content.IE5\IIKY0ZM5\MC900434633[1].wmf"/>
          <p:cNvPicPr/>
          <p:nvPr/>
        </p:nvPicPr>
        <p:blipFill>
          <a:blip r:embed="rId2"/>
          <a:stretch/>
        </p:blipFill>
        <p:spPr>
          <a:xfrm>
            <a:off x="3352680" y="2514600"/>
            <a:ext cx="330372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Rectangle 4" descr=""/>
          <p:cNvPicPr/>
          <p:nvPr/>
        </p:nvPicPr>
        <p:blipFill>
          <a:blip r:embed="rId2"/>
          <a:stretch/>
        </p:blipFill>
        <p:spPr>
          <a:xfrm>
            <a:off x="2901960" y="2792520"/>
            <a:ext cx="33336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Rectangle 4" descr=""/>
          <p:cNvPicPr/>
          <p:nvPr/>
        </p:nvPicPr>
        <p:blipFill>
          <a:blip r:embed="rId2"/>
          <a:stretch/>
        </p:blipFill>
        <p:spPr>
          <a:xfrm>
            <a:off x="2901960" y="2792520"/>
            <a:ext cx="33336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2" name="Rectangle 4" descr=""/>
          <p:cNvPicPr/>
          <p:nvPr/>
        </p:nvPicPr>
        <p:blipFill>
          <a:blip r:embed="rId2"/>
          <a:stretch/>
        </p:blipFill>
        <p:spPr>
          <a:xfrm>
            <a:off x="2901960" y="2792520"/>
            <a:ext cx="33336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6" name="Rectangle 4" descr=""/>
          <p:cNvPicPr/>
          <p:nvPr/>
        </p:nvPicPr>
        <p:blipFill>
          <a:blip r:embed="rId2"/>
          <a:stretch/>
        </p:blipFill>
        <p:spPr>
          <a:xfrm>
            <a:off x="2987640" y="2792520"/>
            <a:ext cx="316404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Rectangle 4" descr=""/>
          <p:cNvPicPr/>
          <p:nvPr/>
        </p:nvPicPr>
        <p:blipFill>
          <a:blip r:embed="rId2"/>
          <a:stretch/>
        </p:blipFill>
        <p:spPr>
          <a:xfrm>
            <a:off x="2901960" y="2792520"/>
            <a:ext cx="33336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Rectangle 4" descr=""/>
          <p:cNvPicPr/>
          <p:nvPr/>
        </p:nvPicPr>
        <p:blipFill>
          <a:blip r:embed="rId2"/>
          <a:stretch/>
        </p:blipFill>
        <p:spPr>
          <a:xfrm>
            <a:off x="2987640" y="2792520"/>
            <a:ext cx="316404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8355960" y="6400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1523880" y="1447920"/>
            <a:ext cx="5105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How many balls are ther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1" descr="C:\Program Files\Microsoft Office\MEDIA\OFFICE12\Bullets\BD21294_.gif"/>
          <p:cNvPicPr/>
          <p:nvPr/>
        </p:nvPicPr>
        <p:blipFill>
          <a:blip r:embed="rId2"/>
          <a:stretch/>
        </p:blipFill>
        <p:spPr>
          <a:xfrm>
            <a:off x="2514600" y="2666880"/>
            <a:ext cx="268200" cy="26856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Program Files\Microsoft Office\MEDIA\OFFICE12\Bullets\BD21294_.gif"/>
          <p:cNvPicPr/>
          <p:nvPr/>
        </p:nvPicPr>
        <p:blipFill>
          <a:blip r:embed="rId3"/>
          <a:stretch/>
        </p:blipFill>
        <p:spPr>
          <a:xfrm>
            <a:off x="2666880" y="2819520"/>
            <a:ext cx="268560" cy="2682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1" descr="C:\Program Files\Microsoft Office\MEDIA\OFFICE12\Bullets\BD21294_.gif"/>
          <p:cNvPicPr/>
          <p:nvPr/>
        </p:nvPicPr>
        <p:blipFill>
          <a:blip r:embed="rId4"/>
          <a:stretch/>
        </p:blipFill>
        <p:spPr>
          <a:xfrm>
            <a:off x="2819520" y="2971800"/>
            <a:ext cx="268200" cy="2682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11" descr="C:\Program Files\Microsoft Office\MEDIA\OFFICE12\Bullets\BD21294_.gif"/>
          <p:cNvPicPr/>
          <p:nvPr/>
        </p:nvPicPr>
        <p:blipFill>
          <a:blip r:embed="rId5"/>
          <a:stretch/>
        </p:blipFill>
        <p:spPr>
          <a:xfrm>
            <a:off x="2971800" y="3124080"/>
            <a:ext cx="268200" cy="2685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11" descr="C:\Program Files\Microsoft Office\MEDIA\OFFICE12\Bullets\BD21294_.gif"/>
          <p:cNvPicPr/>
          <p:nvPr/>
        </p:nvPicPr>
        <p:blipFill>
          <a:blip r:embed="rId6"/>
          <a:stretch/>
        </p:blipFill>
        <p:spPr>
          <a:xfrm>
            <a:off x="3124080" y="3276720"/>
            <a:ext cx="268560" cy="268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11" descr="C:\Program Files\Microsoft Office\MEDIA\OFFICE12\Bullets\BD21294_.gif"/>
          <p:cNvPicPr/>
          <p:nvPr/>
        </p:nvPicPr>
        <p:blipFill>
          <a:blip r:embed="rId7"/>
          <a:stretch/>
        </p:blipFill>
        <p:spPr>
          <a:xfrm>
            <a:off x="3276720" y="3429000"/>
            <a:ext cx="268200" cy="268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Rectangle 4" descr=""/>
          <p:cNvPicPr/>
          <p:nvPr/>
        </p:nvPicPr>
        <p:blipFill>
          <a:blip r:embed="rId2"/>
          <a:stretch/>
        </p:blipFill>
        <p:spPr>
          <a:xfrm>
            <a:off x="2730600" y="2792520"/>
            <a:ext cx="36828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Rectangle 4" descr=""/>
          <p:cNvPicPr/>
          <p:nvPr/>
        </p:nvPicPr>
        <p:blipFill>
          <a:blip r:embed="rId2"/>
          <a:stretch/>
        </p:blipFill>
        <p:spPr>
          <a:xfrm>
            <a:off x="2901960" y="2792520"/>
            <a:ext cx="33336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Box 6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ddi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Rectangle 4" descr=""/>
          <p:cNvPicPr/>
          <p:nvPr/>
        </p:nvPicPr>
        <p:blipFill>
          <a:blip r:embed="rId2"/>
          <a:stretch/>
        </p:blipFill>
        <p:spPr>
          <a:xfrm>
            <a:off x="2901960" y="2792520"/>
            <a:ext cx="3333600" cy="110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TextBox 6"/>
          <p:cNvSpPr/>
          <p:nvPr/>
        </p:nvSpPr>
        <p:spPr>
          <a:xfrm>
            <a:off x="2971800" y="1066680"/>
            <a:ext cx="3200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TextBox 19"/>
          <p:cNvSpPr/>
          <p:nvPr/>
        </p:nvSpPr>
        <p:spPr>
          <a:xfrm>
            <a:off x="2057400" y="2743200"/>
            <a:ext cx="501480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There are 3 appl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in the basket.   Kyle put 2 more in.  How many apples    are in the basket?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1" name="Picture 5" descr="C:\Documents and Settings\jdempsey\Local Settings\Temporary Internet Files\Content.IE5\IR1WC917\MC900434830[1].png"/>
          <p:cNvPicPr/>
          <p:nvPr/>
        </p:nvPicPr>
        <p:blipFill>
          <a:blip r:embed="rId2"/>
          <a:stretch/>
        </p:blipFill>
        <p:spPr>
          <a:xfrm>
            <a:off x="5943600" y="2743200"/>
            <a:ext cx="846000" cy="84600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5" descr="C:\Documents and Settings\jdempsey\Local Settings\Temporary Internet Files\Content.IE5\IR1WC917\MC900434830[1].png"/>
          <p:cNvPicPr/>
          <p:nvPr/>
        </p:nvPicPr>
        <p:blipFill>
          <a:blip r:embed="rId3"/>
          <a:stretch/>
        </p:blipFill>
        <p:spPr>
          <a:xfrm>
            <a:off x="4572000" y="495288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6" descr="C:\Documents and Settings\jdempsey\Local Settings\Temporary Internet Files\Content.IE5\0EY8738R\MC900440387[1].png"/>
          <p:cNvPicPr/>
          <p:nvPr/>
        </p:nvPicPr>
        <p:blipFill>
          <a:blip r:embed="rId4"/>
          <a:stretch/>
        </p:blipFill>
        <p:spPr>
          <a:xfrm>
            <a:off x="4724280" y="3505320"/>
            <a:ext cx="728640" cy="728640"/>
          </a:xfrm>
          <a:prstGeom prst="rect">
            <a:avLst/>
          </a:prstGeom>
          <a:ln w="0">
            <a:noFill/>
          </a:ln>
        </p:spPr>
      </p:pic>
      <p:pic>
        <p:nvPicPr>
          <p:cNvPr id="414" name="Picture 6" descr="C:\Documents and Settings\jdempsey\Local Settings\Temporary Internet Files\Content.IE5\0EY8738R\MC900440387[1].png"/>
          <p:cNvPicPr/>
          <p:nvPr/>
        </p:nvPicPr>
        <p:blipFill>
          <a:blip r:embed="rId5"/>
          <a:stretch/>
        </p:blipFill>
        <p:spPr>
          <a:xfrm>
            <a:off x="4495680" y="5715000"/>
            <a:ext cx="728640" cy="72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 </a:t>
            </a: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Picture 5" descr="C:\Documents and Settings\jdempsey\Local Settings\Temporary Internet Files\Content.IE5\IR1WC917\MC900434830[1].png"/>
          <p:cNvPicPr/>
          <p:nvPr/>
        </p:nvPicPr>
        <p:blipFill>
          <a:blip r:embed="rId2"/>
          <a:stretch/>
        </p:blipFill>
        <p:spPr>
          <a:xfrm>
            <a:off x="5334120" y="380988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5" descr="C:\Documents and Settings\jdempsey\Local Settings\Temporary Internet Files\Content.IE5\0EY8738R\MC900440387[1].png"/>
          <p:cNvPicPr/>
          <p:nvPr/>
        </p:nvPicPr>
        <p:blipFill>
          <a:blip r:embed="rId3"/>
          <a:stretch/>
        </p:blipFill>
        <p:spPr>
          <a:xfrm>
            <a:off x="3352680" y="33526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5" descr="C:\Documents and Settings\jdempsey\Local Settings\Temporary Internet Files\Content.IE5\IR1WC917\MC900434830[1].png"/>
          <p:cNvPicPr/>
          <p:nvPr/>
        </p:nvPicPr>
        <p:blipFill>
          <a:blip r:embed="rId4"/>
          <a:stretch/>
        </p:blipFill>
        <p:spPr>
          <a:xfrm>
            <a:off x="4800600" y="3657600"/>
            <a:ext cx="846000" cy="84600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5" descr="C:\Documents and Settings\jdempsey\Local Settings\Temporary Internet Files\Content.IE5\IR1WC917\MC900434830[1].png"/>
          <p:cNvPicPr/>
          <p:nvPr/>
        </p:nvPicPr>
        <p:blipFill>
          <a:blip r:embed="rId5"/>
          <a:stretch/>
        </p:blipFill>
        <p:spPr>
          <a:xfrm>
            <a:off x="4267080" y="3581280"/>
            <a:ext cx="846360" cy="84636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Documents and Settings\jdempsey\Local Settings\Temporary Internet Files\Content.IE5\IR1WC917\MC900434830[1].png"/>
          <p:cNvPicPr/>
          <p:nvPr/>
        </p:nvPicPr>
        <p:blipFill>
          <a:blip r:embed="rId6"/>
          <a:stretch/>
        </p:blipFill>
        <p:spPr>
          <a:xfrm>
            <a:off x="3733920" y="3581280"/>
            <a:ext cx="846000" cy="846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5" descr="C:\Documents and Settings\jdempsey\Local Settings\Temporary Internet Files\Content.IE5\IR1WC917\MC900434830[1].png"/>
          <p:cNvPicPr/>
          <p:nvPr/>
        </p:nvPicPr>
        <p:blipFill>
          <a:blip r:embed="rId7"/>
          <a:stretch/>
        </p:blipFill>
        <p:spPr>
          <a:xfrm>
            <a:off x="3352680" y="3733920"/>
            <a:ext cx="846360" cy="846000"/>
          </a:xfrm>
          <a:prstGeom prst="rect">
            <a:avLst/>
          </a:prstGeom>
          <a:ln w="0">
            <a:noFill/>
          </a:ln>
        </p:spPr>
      </p:pic>
      <p:sp>
        <p:nvSpPr>
          <p:cNvPr id="424" name="TextBox 19"/>
          <p:cNvSpPr/>
          <p:nvPr/>
        </p:nvSpPr>
        <p:spPr>
          <a:xfrm>
            <a:off x="2057400" y="2743200"/>
            <a:ext cx="5105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Kartika"/>
                <a:ea typeface="Kartika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TextBox 19"/>
          <p:cNvSpPr/>
          <p:nvPr/>
        </p:nvSpPr>
        <p:spPr>
          <a:xfrm>
            <a:off x="1981080" y="2657520"/>
            <a:ext cx="51055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Ashley had 5 c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Jordan had 4 car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How many cars all togeth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9" name="Picture 6" descr="C:\Documents and Settings\jdempsey\Local Settings\Temporary Internet Files\Content.IE5\ED8LR016\MC900440350[1].png"/>
          <p:cNvPicPr/>
          <p:nvPr/>
        </p:nvPicPr>
        <p:blipFill>
          <a:blip r:embed="rId2"/>
          <a:stretch/>
        </p:blipFill>
        <p:spPr>
          <a:xfrm>
            <a:off x="5486400" y="2743200"/>
            <a:ext cx="1219320" cy="63972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7" descr="C:\Documents and Settings\jdempsey\Local Settings\Temporary Internet Files\Content.IE5\IR1WC917\MC900440337[1].png"/>
          <p:cNvPicPr/>
          <p:nvPr/>
        </p:nvPicPr>
        <p:blipFill>
          <a:blip r:embed="rId3"/>
          <a:stretch/>
        </p:blipFill>
        <p:spPr>
          <a:xfrm>
            <a:off x="5562720" y="3352680"/>
            <a:ext cx="1242720" cy="6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Picture 6" descr="C:\Documents and Settings\jdempsey\Local Settings\Temporary Internet Files\Content.IE5\ED8LR016\MC900440350[1].png"/>
          <p:cNvPicPr/>
          <p:nvPr/>
        </p:nvPicPr>
        <p:blipFill>
          <a:blip r:embed="rId2"/>
          <a:stretch/>
        </p:blipFill>
        <p:spPr>
          <a:xfrm>
            <a:off x="3276720" y="3124080"/>
            <a:ext cx="1218960" cy="6397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6" descr="C:\Documents and Settings\jdempsey\Local Settings\Temporary Internet Files\Content.IE5\ED8LR016\MC900440350[1].png"/>
          <p:cNvPicPr/>
          <p:nvPr/>
        </p:nvPicPr>
        <p:blipFill>
          <a:blip r:embed="rId3"/>
          <a:stretch/>
        </p:blipFill>
        <p:spPr>
          <a:xfrm>
            <a:off x="3276720" y="5562720"/>
            <a:ext cx="1218960" cy="63972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6" descr="C:\Documents and Settings\jdempsey\Local Settings\Temporary Internet Files\Content.IE5\ED8LR016\MC900440350[1].png"/>
          <p:cNvPicPr/>
          <p:nvPr/>
        </p:nvPicPr>
        <p:blipFill>
          <a:blip r:embed="rId4"/>
          <a:stretch/>
        </p:blipFill>
        <p:spPr>
          <a:xfrm>
            <a:off x="3429000" y="4876920"/>
            <a:ext cx="1219320" cy="63972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C:\Documents and Settings\jdempsey\Local Settings\Temporary Internet Files\Content.IE5\ED8LR016\MC900440350[1].png"/>
          <p:cNvPicPr/>
          <p:nvPr/>
        </p:nvPicPr>
        <p:blipFill>
          <a:blip r:embed="rId5"/>
          <a:stretch/>
        </p:blipFill>
        <p:spPr>
          <a:xfrm>
            <a:off x="3429000" y="4191120"/>
            <a:ext cx="1219320" cy="63972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6" descr="C:\Documents and Settings\jdempsey\Local Settings\Temporary Internet Files\Content.IE5\ED8LR016\MC900440350[1].png"/>
          <p:cNvPicPr/>
          <p:nvPr/>
        </p:nvPicPr>
        <p:blipFill>
          <a:blip r:embed="rId6"/>
          <a:stretch/>
        </p:blipFill>
        <p:spPr>
          <a:xfrm>
            <a:off x="3352680" y="3581280"/>
            <a:ext cx="1219320" cy="6397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7" descr="C:\Documents and Settings\jdempsey\Local Settings\Temporary Internet Files\Content.IE5\IR1WC917\MC900440337[1].png"/>
          <p:cNvPicPr/>
          <p:nvPr/>
        </p:nvPicPr>
        <p:blipFill>
          <a:blip r:embed="rId7"/>
          <a:stretch/>
        </p:blipFill>
        <p:spPr>
          <a:xfrm>
            <a:off x="1219320" y="4952880"/>
            <a:ext cx="1242720" cy="67176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7" descr="C:\Documents and Settings\jdempsey\Local Settings\Temporary Internet Files\Content.IE5\IR1WC917\MC900440337[1].png"/>
          <p:cNvPicPr/>
          <p:nvPr/>
        </p:nvPicPr>
        <p:blipFill>
          <a:blip r:embed="rId8"/>
          <a:stretch/>
        </p:blipFill>
        <p:spPr>
          <a:xfrm>
            <a:off x="1143000" y="4343400"/>
            <a:ext cx="1243080" cy="67140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7" descr="C:\Documents and Settings\jdempsey\Local Settings\Temporary Internet Files\Content.IE5\IR1WC917\MC900440337[1].png"/>
          <p:cNvPicPr/>
          <p:nvPr/>
        </p:nvPicPr>
        <p:blipFill>
          <a:blip r:embed="rId9"/>
          <a:stretch/>
        </p:blipFill>
        <p:spPr>
          <a:xfrm>
            <a:off x="1143000" y="3809880"/>
            <a:ext cx="1243080" cy="67176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7" descr="C:\Documents and Settings\jdempsey\Local Settings\Temporary Internet Files\Content.IE5\IR1WC917\MC900440337[1].png"/>
          <p:cNvPicPr/>
          <p:nvPr/>
        </p:nvPicPr>
        <p:blipFill>
          <a:blip r:embed="rId10"/>
          <a:stretch/>
        </p:blipFill>
        <p:spPr>
          <a:xfrm>
            <a:off x="1143000" y="5562720"/>
            <a:ext cx="1243080" cy="671400"/>
          </a:xfrm>
          <a:prstGeom prst="rect">
            <a:avLst/>
          </a:prstGeom>
          <a:ln w="0">
            <a:noFill/>
          </a:ln>
        </p:spPr>
      </p:pic>
      <p:sp>
        <p:nvSpPr>
          <p:cNvPr id="443" name="TextBox 19"/>
          <p:cNvSpPr/>
          <p:nvPr/>
        </p:nvSpPr>
        <p:spPr>
          <a:xfrm>
            <a:off x="1371600" y="259092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Picture 5" descr="C:\Documents and Settings\jdempsey\Local Settings\Temporary Internet Files\Content.IE5\2FQ94MNK\MC900391452[1].wmf"/>
          <p:cNvPicPr/>
          <p:nvPr/>
        </p:nvPicPr>
        <p:blipFill>
          <a:blip r:embed="rId2"/>
          <a:stretch/>
        </p:blipFill>
        <p:spPr>
          <a:xfrm>
            <a:off x="5715000" y="3505320"/>
            <a:ext cx="1008000" cy="664920"/>
          </a:xfrm>
          <a:prstGeom prst="rect">
            <a:avLst/>
          </a:prstGeom>
          <a:ln w="0">
            <a:noFill/>
          </a:ln>
        </p:spPr>
      </p:pic>
      <p:sp>
        <p:nvSpPr>
          <p:cNvPr id="448" name="TextBox 19"/>
          <p:cNvSpPr/>
          <p:nvPr/>
        </p:nvSpPr>
        <p:spPr>
          <a:xfrm>
            <a:off x="1981080" y="2657520"/>
            <a:ext cx="510552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There were 7 frogs    in the lake.  Two frogs jumped into the lak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How many frogs are in the lake now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9" name="Picture 5" descr="C:\Documents and Settings\jdempsey\Local Settings\Temporary Internet Files\Content.IE5\2FQ94MNK\MC900391452[1].wmf"/>
          <p:cNvPicPr/>
          <p:nvPr/>
        </p:nvPicPr>
        <p:blipFill>
          <a:blip r:embed="rId3"/>
          <a:stretch/>
        </p:blipFill>
        <p:spPr>
          <a:xfrm>
            <a:off x="5334120" y="2743200"/>
            <a:ext cx="1008000" cy="6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Freeform 12"/>
          <p:cNvSpPr/>
          <p:nvPr/>
        </p:nvSpPr>
        <p:spPr>
          <a:xfrm>
            <a:off x="2743200" y="2971800"/>
            <a:ext cx="3100320" cy="2211480"/>
          </a:xfrm>
          <a:custGeom>
            <a:avLst/>
            <a:gdLst/>
            <a:ahLst/>
            <a:rect l="l" t="t" r="r" b="b"/>
            <a:pathLst>
              <a:path w="3100306" h="2211165">
                <a:moveTo>
                  <a:pt x="1931168" y="457200"/>
                </a:moveTo>
                <a:lnTo>
                  <a:pt x="1931168" y="457200"/>
                </a:lnTo>
                <a:lnTo>
                  <a:pt x="2366597" y="511628"/>
                </a:lnTo>
                <a:cubicBezTo>
                  <a:pt x="2402804" y="515973"/>
                  <a:pt x="2439696" y="515362"/>
                  <a:pt x="2475454" y="522514"/>
                </a:cubicBezTo>
                <a:cubicBezTo>
                  <a:pt x="2494615" y="526346"/>
                  <a:pt x="2510761" y="540260"/>
                  <a:pt x="2529882" y="544286"/>
                </a:cubicBezTo>
                <a:cubicBezTo>
                  <a:pt x="2580097" y="554858"/>
                  <a:pt x="2682282" y="566057"/>
                  <a:pt x="2682282" y="566057"/>
                </a:cubicBezTo>
                <a:lnTo>
                  <a:pt x="2780254" y="609600"/>
                </a:lnTo>
                <a:cubicBezTo>
                  <a:pt x="2794988" y="616400"/>
                  <a:pt x="2808603" y="625673"/>
                  <a:pt x="2823797" y="631371"/>
                </a:cubicBezTo>
                <a:cubicBezTo>
                  <a:pt x="2837805" y="636624"/>
                  <a:pt x="2852826" y="638628"/>
                  <a:pt x="2867340" y="642257"/>
                </a:cubicBezTo>
                <a:cubicBezTo>
                  <a:pt x="2881854" y="653143"/>
                  <a:pt x="2896019" y="664510"/>
                  <a:pt x="2910882" y="674914"/>
                </a:cubicBezTo>
                <a:cubicBezTo>
                  <a:pt x="2932318" y="689919"/>
                  <a:pt x="2957695" y="699955"/>
                  <a:pt x="2976197" y="718457"/>
                </a:cubicBezTo>
                <a:lnTo>
                  <a:pt x="3008854" y="751114"/>
                </a:lnTo>
                <a:cubicBezTo>
                  <a:pt x="3014942" y="769377"/>
                  <a:pt x="3029382" y="809912"/>
                  <a:pt x="3030625" y="827314"/>
                </a:cubicBezTo>
                <a:cubicBezTo>
                  <a:pt x="3036835" y="914254"/>
                  <a:pt x="3035899" y="1001591"/>
                  <a:pt x="3041511" y="1088571"/>
                </a:cubicBezTo>
                <a:cubicBezTo>
                  <a:pt x="3046514" y="1166123"/>
                  <a:pt x="3042108" y="1149337"/>
                  <a:pt x="3074168" y="1197428"/>
                </a:cubicBezTo>
                <a:cubicBezTo>
                  <a:pt x="3100306" y="1354256"/>
                  <a:pt x="3084591" y="1232619"/>
                  <a:pt x="3074168" y="1534886"/>
                </a:cubicBezTo>
                <a:cubicBezTo>
                  <a:pt x="3070039" y="1654612"/>
                  <a:pt x="3072964" y="1774708"/>
                  <a:pt x="3063282" y="1894114"/>
                </a:cubicBezTo>
                <a:cubicBezTo>
                  <a:pt x="3061971" y="1910288"/>
                  <a:pt x="3049562" y="1923568"/>
                  <a:pt x="3041511" y="1937657"/>
                </a:cubicBezTo>
                <a:cubicBezTo>
                  <a:pt x="3030799" y="1956403"/>
                  <a:pt x="3015849" y="1978675"/>
                  <a:pt x="2997968" y="1992086"/>
                </a:cubicBezTo>
                <a:cubicBezTo>
                  <a:pt x="2977035" y="2007785"/>
                  <a:pt x="2957477" y="2027353"/>
                  <a:pt x="2932654" y="2035628"/>
                </a:cubicBezTo>
                <a:cubicBezTo>
                  <a:pt x="2921768" y="2039257"/>
                  <a:pt x="2910544" y="2041994"/>
                  <a:pt x="2899997" y="2046514"/>
                </a:cubicBezTo>
                <a:cubicBezTo>
                  <a:pt x="2885082" y="2052907"/>
                  <a:pt x="2870543" y="2060235"/>
                  <a:pt x="2856454" y="2068286"/>
                </a:cubicBezTo>
                <a:cubicBezTo>
                  <a:pt x="2813660" y="2092740"/>
                  <a:pt x="2793654" y="2122211"/>
                  <a:pt x="2736711" y="2133600"/>
                </a:cubicBezTo>
                <a:cubicBezTo>
                  <a:pt x="2699308" y="2141081"/>
                  <a:pt x="2674603" y="2145125"/>
                  <a:pt x="2638740" y="2155371"/>
                </a:cubicBezTo>
                <a:cubicBezTo>
                  <a:pt x="2590327" y="2169203"/>
                  <a:pt x="2619251" y="2165801"/>
                  <a:pt x="2562540" y="2177143"/>
                </a:cubicBezTo>
                <a:cubicBezTo>
                  <a:pt x="2435629" y="2202525"/>
                  <a:pt x="2560982" y="2169811"/>
                  <a:pt x="2421025" y="2209800"/>
                </a:cubicBezTo>
                <a:cubicBezTo>
                  <a:pt x="2247999" y="2204856"/>
                  <a:pt x="2104019" y="2211165"/>
                  <a:pt x="1942054" y="2188028"/>
                </a:cubicBezTo>
                <a:cubicBezTo>
                  <a:pt x="1919598" y="2184820"/>
                  <a:pt x="1867858" y="2173050"/>
                  <a:pt x="1844082" y="2166257"/>
                </a:cubicBezTo>
                <a:cubicBezTo>
                  <a:pt x="1833049" y="2163105"/>
                  <a:pt x="1822458" y="2158523"/>
                  <a:pt x="1811425" y="2155371"/>
                </a:cubicBezTo>
                <a:cubicBezTo>
                  <a:pt x="1797040" y="2151261"/>
                  <a:pt x="1782396" y="2148114"/>
                  <a:pt x="1767882" y="2144486"/>
                </a:cubicBezTo>
                <a:cubicBezTo>
                  <a:pt x="1730192" y="2125640"/>
                  <a:pt x="1687198" y="2103076"/>
                  <a:pt x="1648140" y="2090057"/>
                </a:cubicBezTo>
                <a:cubicBezTo>
                  <a:pt x="1630587" y="2084206"/>
                  <a:pt x="1611561" y="2084039"/>
                  <a:pt x="1593711" y="2079171"/>
                </a:cubicBezTo>
                <a:cubicBezTo>
                  <a:pt x="1571571" y="2073133"/>
                  <a:pt x="1550661" y="2062966"/>
                  <a:pt x="1528397" y="2057400"/>
                </a:cubicBezTo>
                <a:cubicBezTo>
                  <a:pt x="1492498" y="2048425"/>
                  <a:pt x="1419540" y="2035628"/>
                  <a:pt x="1419540" y="2035628"/>
                </a:cubicBezTo>
                <a:cubicBezTo>
                  <a:pt x="1339611" y="1995664"/>
                  <a:pt x="1410524" y="2025082"/>
                  <a:pt x="1288911" y="2002971"/>
                </a:cubicBezTo>
                <a:cubicBezTo>
                  <a:pt x="1277622" y="2000918"/>
                  <a:pt x="1267386" y="1994869"/>
                  <a:pt x="1256254" y="1992086"/>
                </a:cubicBezTo>
                <a:cubicBezTo>
                  <a:pt x="1229078" y="1985292"/>
                  <a:pt x="1161747" y="1974197"/>
                  <a:pt x="1136511" y="1970314"/>
                </a:cubicBezTo>
                <a:cubicBezTo>
                  <a:pt x="996277" y="1948739"/>
                  <a:pt x="1074335" y="1963266"/>
                  <a:pt x="853482" y="1948543"/>
                </a:cubicBezTo>
                <a:cubicBezTo>
                  <a:pt x="813492" y="1945877"/>
                  <a:pt x="773745" y="1940082"/>
                  <a:pt x="733740" y="1937657"/>
                </a:cubicBezTo>
                <a:cubicBezTo>
                  <a:pt x="653975" y="1932823"/>
                  <a:pt x="574083" y="1930400"/>
                  <a:pt x="494254" y="1926771"/>
                </a:cubicBezTo>
                <a:cubicBezTo>
                  <a:pt x="472483" y="1919514"/>
                  <a:pt x="451443" y="1909501"/>
                  <a:pt x="428940" y="1905000"/>
                </a:cubicBezTo>
                <a:cubicBezTo>
                  <a:pt x="410797" y="1901371"/>
                  <a:pt x="392064" y="1899965"/>
                  <a:pt x="374511" y="1894114"/>
                </a:cubicBezTo>
                <a:cubicBezTo>
                  <a:pt x="300161" y="1869330"/>
                  <a:pt x="280025" y="1857756"/>
                  <a:pt x="222111" y="1828800"/>
                </a:cubicBezTo>
                <a:cubicBezTo>
                  <a:pt x="154853" y="1761542"/>
                  <a:pt x="188208" y="1789766"/>
                  <a:pt x="124140" y="1741714"/>
                </a:cubicBezTo>
                <a:cubicBezTo>
                  <a:pt x="120511" y="1730828"/>
                  <a:pt x="116406" y="1720090"/>
                  <a:pt x="113254" y="1709057"/>
                </a:cubicBezTo>
                <a:cubicBezTo>
                  <a:pt x="85916" y="1613376"/>
                  <a:pt x="117583" y="1711157"/>
                  <a:pt x="91482" y="1632857"/>
                </a:cubicBezTo>
                <a:cubicBezTo>
                  <a:pt x="81483" y="1522859"/>
                  <a:pt x="85598" y="1535176"/>
                  <a:pt x="69711" y="1447800"/>
                </a:cubicBezTo>
                <a:cubicBezTo>
                  <a:pt x="66401" y="1429596"/>
                  <a:pt x="64142" y="1411093"/>
                  <a:pt x="58825" y="1393371"/>
                </a:cubicBezTo>
                <a:cubicBezTo>
                  <a:pt x="53210" y="1374655"/>
                  <a:pt x="44311" y="1357086"/>
                  <a:pt x="37054" y="1338943"/>
                </a:cubicBezTo>
                <a:cubicBezTo>
                  <a:pt x="33425" y="1317171"/>
                  <a:pt x="28906" y="1295530"/>
                  <a:pt x="26168" y="1273628"/>
                </a:cubicBezTo>
                <a:cubicBezTo>
                  <a:pt x="0" y="1064292"/>
                  <a:pt x="29197" y="1248264"/>
                  <a:pt x="4397" y="1099457"/>
                </a:cubicBezTo>
                <a:cubicBezTo>
                  <a:pt x="8025" y="856343"/>
                  <a:pt x="8338" y="613156"/>
                  <a:pt x="15282" y="370114"/>
                </a:cubicBezTo>
                <a:cubicBezTo>
                  <a:pt x="15610" y="358644"/>
                  <a:pt x="23016" y="348490"/>
                  <a:pt x="26168" y="337457"/>
                </a:cubicBezTo>
                <a:cubicBezTo>
                  <a:pt x="32088" y="316738"/>
                  <a:pt x="48478" y="238947"/>
                  <a:pt x="58825" y="228600"/>
                </a:cubicBezTo>
                <a:cubicBezTo>
                  <a:pt x="154231" y="133194"/>
                  <a:pt x="33207" y="249948"/>
                  <a:pt x="124140" y="174171"/>
                </a:cubicBezTo>
                <a:cubicBezTo>
                  <a:pt x="178502" y="128870"/>
                  <a:pt x="132062" y="149759"/>
                  <a:pt x="189454" y="130628"/>
                </a:cubicBezTo>
                <a:cubicBezTo>
                  <a:pt x="223295" y="96787"/>
                  <a:pt x="227845" y="86956"/>
                  <a:pt x="276540" y="65314"/>
                </a:cubicBezTo>
                <a:cubicBezTo>
                  <a:pt x="290211" y="59238"/>
                  <a:pt x="305568" y="58057"/>
                  <a:pt x="320082" y="54428"/>
                </a:cubicBezTo>
                <a:cubicBezTo>
                  <a:pt x="330968" y="47171"/>
                  <a:pt x="340715" y="37811"/>
                  <a:pt x="352740" y="32657"/>
                </a:cubicBezTo>
                <a:cubicBezTo>
                  <a:pt x="366491" y="26764"/>
                  <a:pt x="381678" y="25016"/>
                  <a:pt x="396282" y="21771"/>
                </a:cubicBezTo>
                <a:cubicBezTo>
                  <a:pt x="474141" y="4469"/>
                  <a:pt x="466663" y="9436"/>
                  <a:pt x="570454" y="0"/>
                </a:cubicBezTo>
                <a:lnTo>
                  <a:pt x="1114740" y="10886"/>
                </a:lnTo>
                <a:cubicBezTo>
                  <a:pt x="1158411" y="12295"/>
                  <a:pt x="1202423" y="13719"/>
                  <a:pt x="1245368" y="21771"/>
                </a:cubicBezTo>
                <a:cubicBezTo>
                  <a:pt x="1261318" y="24762"/>
                  <a:pt x="1273168" y="39607"/>
                  <a:pt x="1288911" y="43543"/>
                </a:cubicBezTo>
                <a:cubicBezTo>
                  <a:pt x="1317292" y="50638"/>
                  <a:pt x="1346968" y="50800"/>
                  <a:pt x="1375997" y="54428"/>
                </a:cubicBezTo>
                <a:cubicBezTo>
                  <a:pt x="1386883" y="58057"/>
                  <a:pt x="1398391" y="60182"/>
                  <a:pt x="1408654" y="65314"/>
                </a:cubicBezTo>
                <a:cubicBezTo>
                  <a:pt x="1420356" y="71165"/>
                  <a:pt x="1429286" y="81932"/>
                  <a:pt x="1441311" y="87086"/>
                </a:cubicBezTo>
                <a:cubicBezTo>
                  <a:pt x="1490162" y="108022"/>
                  <a:pt x="1475128" y="87665"/>
                  <a:pt x="1517511" y="108857"/>
                </a:cubicBezTo>
                <a:cubicBezTo>
                  <a:pt x="1601920" y="151061"/>
                  <a:pt x="1500741" y="114152"/>
                  <a:pt x="1582825" y="141514"/>
                </a:cubicBezTo>
                <a:cubicBezTo>
                  <a:pt x="1645368" y="204057"/>
                  <a:pt x="1612912" y="187830"/>
                  <a:pt x="1669911" y="206828"/>
                </a:cubicBezTo>
                <a:cubicBezTo>
                  <a:pt x="1800726" y="337643"/>
                  <a:pt x="1652340" y="183564"/>
                  <a:pt x="1735225" y="283028"/>
                </a:cubicBezTo>
                <a:cubicBezTo>
                  <a:pt x="1768991" y="323548"/>
                  <a:pt x="1769377" y="312302"/>
                  <a:pt x="1811425" y="348343"/>
                </a:cubicBezTo>
                <a:cubicBezTo>
                  <a:pt x="1823114" y="358362"/>
                  <a:pt x="1834227" y="369174"/>
                  <a:pt x="1844082" y="381000"/>
                </a:cubicBezTo>
                <a:cubicBezTo>
                  <a:pt x="1852458" y="391051"/>
                  <a:pt x="1854760" y="406723"/>
                  <a:pt x="1865854" y="413657"/>
                </a:cubicBezTo>
                <a:cubicBezTo>
                  <a:pt x="1876411" y="420255"/>
                  <a:pt x="1953855" y="442838"/>
                  <a:pt x="1974711" y="446314"/>
                </a:cubicBezTo>
                <a:cubicBezTo>
                  <a:pt x="1981869" y="447507"/>
                  <a:pt x="1989225" y="446314"/>
                  <a:pt x="1996482" y="446314"/>
                </a:cubicBezTo>
                <a:lnTo>
                  <a:pt x="1931168" y="457200"/>
                </a:lnTo>
                <a:close/>
              </a:path>
            </a:pathLst>
          </a:custGeom>
          <a:solidFill>
            <a:srgbClr val="00b0f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Picture 5" descr="C:\Documents and Settings\jdempsey\Local Settings\Temporary Internet Files\Content.IE5\2FQ94MNK\MC900391452[1].wmf"/>
          <p:cNvPicPr/>
          <p:nvPr/>
        </p:nvPicPr>
        <p:blipFill>
          <a:blip r:embed="rId1"/>
          <a:stretch/>
        </p:blipFill>
        <p:spPr>
          <a:xfrm>
            <a:off x="2743200" y="3200400"/>
            <a:ext cx="777960" cy="512640"/>
          </a:xfrm>
          <a:prstGeom prst="rect">
            <a:avLst/>
          </a:prstGeom>
          <a:ln w="0">
            <a:noFill/>
          </a:ln>
        </p:spPr>
      </p:pic>
      <p:pic>
        <p:nvPicPr>
          <p:cNvPr id="455" name="Picture 5" descr="C:\Documents and Settings\jdempsey\Local Settings\Temporary Internet Files\Content.IE5\2FQ94MNK\MC900391452[1].wmf"/>
          <p:cNvPicPr/>
          <p:nvPr/>
        </p:nvPicPr>
        <p:blipFill>
          <a:blip r:embed="rId2"/>
          <a:stretch/>
        </p:blipFill>
        <p:spPr>
          <a:xfrm>
            <a:off x="2666880" y="3733920"/>
            <a:ext cx="685800" cy="45216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5" descr="C:\Documents and Settings\jdempsey\Local Settings\Temporary Internet Files\Content.IE5\2FQ94MNK\MC900391452[1].wmf"/>
          <p:cNvPicPr/>
          <p:nvPr/>
        </p:nvPicPr>
        <p:blipFill>
          <a:blip r:embed="rId3"/>
          <a:stretch/>
        </p:blipFill>
        <p:spPr>
          <a:xfrm>
            <a:off x="3352680" y="3048120"/>
            <a:ext cx="777960" cy="51264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5" descr="C:\Documents and Settings\jdempsey\Local Settings\Temporary Internet Files\Content.IE5\2FQ94MNK\MC900391452[1].wmf"/>
          <p:cNvPicPr/>
          <p:nvPr/>
        </p:nvPicPr>
        <p:blipFill>
          <a:blip r:embed="rId4"/>
          <a:stretch/>
        </p:blipFill>
        <p:spPr>
          <a:xfrm>
            <a:off x="3886200" y="3276720"/>
            <a:ext cx="892080" cy="588960"/>
          </a:xfrm>
          <a:prstGeom prst="rect">
            <a:avLst/>
          </a:prstGeom>
          <a:ln w="0">
            <a:noFill/>
          </a:ln>
        </p:spPr>
      </p:pic>
      <p:pic>
        <p:nvPicPr>
          <p:cNvPr id="458" name="Picture 5" descr="C:\Documents and Settings\jdempsey\Local Settings\Temporary Internet Files\Content.IE5\2FQ94MNK\MC900391452[1].wmf"/>
          <p:cNvPicPr/>
          <p:nvPr/>
        </p:nvPicPr>
        <p:blipFill>
          <a:blip r:embed="rId5"/>
          <a:stretch/>
        </p:blipFill>
        <p:spPr>
          <a:xfrm>
            <a:off x="3276720" y="3505320"/>
            <a:ext cx="777600" cy="512640"/>
          </a:xfrm>
          <a:prstGeom prst="rect">
            <a:avLst/>
          </a:prstGeom>
          <a:ln w="0">
            <a:noFill/>
          </a:ln>
        </p:spPr>
      </p:pic>
      <p:pic>
        <p:nvPicPr>
          <p:cNvPr id="459" name="Picture 5" descr="C:\Documents and Settings\jdempsey\Local Settings\Temporary Internet Files\Content.IE5\2FQ94MNK\MC900391452[1].wmf"/>
          <p:cNvPicPr/>
          <p:nvPr/>
        </p:nvPicPr>
        <p:blipFill>
          <a:blip r:embed="rId6"/>
          <a:stretch/>
        </p:blipFill>
        <p:spPr>
          <a:xfrm>
            <a:off x="4343400" y="3733920"/>
            <a:ext cx="777960" cy="512640"/>
          </a:xfrm>
          <a:prstGeom prst="rect">
            <a:avLst/>
          </a:prstGeom>
          <a:ln w="0">
            <a:noFill/>
          </a:ln>
        </p:spPr>
      </p:pic>
      <p:pic>
        <p:nvPicPr>
          <p:cNvPr id="460" name="Picture 5" descr="C:\Documents and Settings\jdempsey\Local Settings\Temporary Internet Files\Content.IE5\2FQ94MNK\MC900391452[1].wmf"/>
          <p:cNvPicPr/>
          <p:nvPr/>
        </p:nvPicPr>
        <p:blipFill>
          <a:blip r:embed="rId7"/>
          <a:stretch/>
        </p:blipFill>
        <p:spPr>
          <a:xfrm>
            <a:off x="3581280" y="4038480"/>
            <a:ext cx="777960" cy="5130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5" descr="C:\Documents and Settings\jdempsey\Local Settings\Temporary Internet Files\Content.IE5\2FQ94MNK\MC900391452[1].wmf"/>
          <p:cNvPicPr/>
          <p:nvPr/>
        </p:nvPicPr>
        <p:blipFill>
          <a:blip r:embed="rId8"/>
          <a:stretch/>
        </p:blipFill>
        <p:spPr>
          <a:xfrm>
            <a:off x="2895480" y="4191120"/>
            <a:ext cx="777960" cy="5126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5" descr="C:\Documents and Settings\jdempsey\Local Settings\Temporary Internet Files\Content.IE5\2FQ94MNK\MC900391452[1].wmf"/>
          <p:cNvPicPr/>
          <p:nvPr/>
        </p:nvPicPr>
        <p:blipFill>
          <a:blip r:embed="rId9"/>
          <a:stretch/>
        </p:blipFill>
        <p:spPr>
          <a:xfrm>
            <a:off x="4343400" y="4267080"/>
            <a:ext cx="892080" cy="58896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9"/>
          <p:cNvSpPr/>
          <p:nvPr/>
        </p:nvSpPr>
        <p:spPr>
          <a:xfrm>
            <a:off x="3276720" y="26668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TextBox 19"/>
          <p:cNvSpPr/>
          <p:nvPr/>
        </p:nvSpPr>
        <p:spPr>
          <a:xfrm>
            <a:off x="1981080" y="2657520"/>
            <a:ext cx="5105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There were 10 cupcakes on the table.  2 cupcakes fell off the table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How cupcakes are lef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Picture 5" descr="C:\Documents and Settings\jdempsey\Local Settings\Temporary Internet Files\Content.IE5\VR8Q88BS\MC900437757[1].wmf"/>
          <p:cNvPicPr/>
          <p:nvPr/>
        </p:nvPicPr>
        <p:blipFill>
          <a:blip r:embed="rId1"/>
          <a:stretch/>
        </p:blipFill>
        <p:spPr>
          <a:xfrm>
            <a:off x="6477120" y="2514600"/>
            <a:ext cx="549000" cy="73512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5" descr="C:\Documents and Settings\jdempsey\Local Settings\Temporary Internet Files\Content.IE5\VR8Q88BS\MC900437757[1].wmf"/>
          <p:cNvPicPr/>
          <p:nvPr/>
        </p:nvPicPr>
        <p:blipFill>
          <a:blip r:embed="rId2"/>
          <a:stretch/>
        </p:blipFill>
        <p:spPr>
          <a:xfrm>
            <a:off x="6858000" y="3276720"/>
            <a:ext cx="549360" cy="734760"/>
          </a:xfrm>
          <a:prstGeom prst="rect">
            <a:avLst/>
          </a:prstGeom>
          <a:ln w="0">
            <a:noFill/>
          </a:ln>
        </p:spPr>
      </p:pic>
      <p:sp>
        <p:nvSpPr>
          <p:cNvPr id="470" name="table"/>
          <p:cNvSpPr/>
          <p:nvPr/>
        </p:nvSpPr>
        <p:spPr>
          <a:xfrm>
            <a:off x="5105520" y="4038480"/>
            <a:ext cx="633240" cy="611280"/>
          </a:xfrm>
          <a:custGeom>
            <a:avLst/>
            <a:gdLst>
              <a:gd name="textAreaLeft" fmla="*/ 117720 w 633240"/>
              <a:gd name="textAreaRight" fmla="*/ 516600 w 633240"/>
              <a:gd name="textAreaTop" fmla="*/ 127080 h 611280"/>
              <a:gd name="textAreaBottom" fmla="*/ 484560 h 611280"/>
            </a:gdLst>
            <a:ahLst/>
            <a:rect l="textAreaLeft" t="textAreaTop" r="textAreaRight" b="textAreaBottom"/>
            <a:pathLst>
              <a:path w="21600" h="21600">
                <a:moveTo>
                  <a:pt x="17641" y="17591"/>
                </a:moveTo>
                <a:lnTo>
                  <a:pt x="18067" y="17165"/>
                </a:lnTo>
                <a:lnTo>
                  <a:pt x="18443" y="16689"/>
                </a:lnTo>
                <a:lnTo>
                  <a:pt x="18794" y="16162"/>
                </a:lnTo>
                <a:lnTo>
                  <a:pt x="19144" y="15661"/>
                </a:lnTo>
                <a:lnTo>
                  <a:pt x="19420" y="15135"/>
                </a:lnTo>
                <a:lnTo>
                  <a:pt x="19645" y="14584"/>
                </a:lnTo>
                <a:lnTo>
                  <a:pt x="19871" y="13982"/>
                </a:lnTo>
                <a:lnTo>
                  <a:pt x="20071" y="13406"/>
                </a:lnTo>
                <a:lnTo>
                  <a:pt x="20297" y="13456"/>
                </a:lnTo>
                <a:lnTo>
                  <a:pt x="20472" y="13456"/>
                </a:lnTo>
                <a:lnTo>
                  <a:pt x="20648" y="13406"/>
                </a:lnTo>
                <a:lnTo>
                  <a:pt x="20823" y="13331"/>
                </a:lnTo>
                <a:lnTo>
                  <a:pt x="20948" y="13206"/>
                </a:lnTo>
                <a:lnTo>
                  <a:pt x="21099" y="13080"/>
                </a:lnTo>
                <a:lnTo>
                  <a:pt x="21149" y="12905"/>
                </a:lnTo>
                <a:lnTo>
                  <a:pt x="21299" y="12704"/>
                </a:lnTo>
                <a:lnTo>
                  <a:pt x="21425" y="12253"/>
                </a:lnTo>
                <a:lnTo>
                  <a:pt x="21550" y="11727"/>
                </a:lnTo>
                <a:lnTo>
                  <a:pt x="21600" y="11276"/>
                </a:lnTo>
                <a:lnTo>
                  <a:pt x="21600" y="10800"/>
                </a:lnTo>
                <a:lnTo>
                  <a:pt x="21600" y="10324"/>
                </a:lnTo>
                <a:lnTo>
                  <a:pt x="21550" y="9823"/>
                </a:lnTo>
                <a:lnTo>
                  <a:pt x="21425" y="9347"/>
                </a:lnTo>
                <a:lnTo>
                  <a:pt x="21299" y="8896"/>
                </a:lnTo>
                <a:lnTo>
                  <a:pt x="21149" y="8695"/>
                </a:lnTo>
                <a:lnTo>
                  <a:pt x="21099" y="8520"/>
                </a:lnTo>
                <a:lnTo>
                  <a:pt x="20948" y="8344"/>
                </a:lnTo>
                <a:lnTo>
                  <a:pt x="20823" y="8269"/>
                </a:lnTo>
                <a:lnTo>
                  <a:pt x="20648" y="8169"/>
                </a:lnTo>
                <a:lnTo>
                  <a:pt x="20472" y="8144"/>
                </a:lnTo>
                <a:lnTo>
                  <a:pt x="20297" y="8144"/>
                </a:lnTo>
                <a:lnTo>
                  <a:pt x="20071" y="8169"/>
                </a:lnTo>
                <a:lnTo>
                  <a:pt x="19871" y="7618"/>
                </a:lnTo>
                <a:lnTo>
                  <a:pt x="19645" y="7016"/>
                </a:lnTo>
                <a:lnTo>
                  <a:pt x="19420" y="6490"/>
                </a:lnTo>
                <a:lnTo>
                  <a:pt x="19144" y="5939"/>
                </a:lnTo>
                <a:lnTo>
                  <a:pt x="18794" y="5438"/>
                </a:lnTo>
                <a:lnTo>
                  <a:pt x="18443" y="4961"/>
                </a:lnTo>
                <a:lnTo>
                  <a:pt x="18067" y="4460"/>
                </a:lnTo>
                <a:lnTo>
                  <a:pt x="17691" y="4034"/>
                </a:lnTo>
                <a:lnTo>
                  <a:pt x="17215" y="3608"/>
                </a:lnTo>
                <a:lnTo>
                  <a:pt x="16739" y="3232"/>
                </a:lnTo>
                <a:lnTo>
                  <a:pt x="16263" y="2832"/>
                </a:lnTo>
                <a:lnTo>
                  <a:pt x="15686" y="2506"/>
                </a:lnTo>
                <a:lnTo>
                  <a:pt x="15185" y="2205"/>
                </a:lnTo>
                <a:lnTo>
                  <a:pt x="14609" y="1929"/>
                </a:lnTo>
                <a:lnTo>
                  <a:pt x="14032" y="1704"/>
                </a:lnTo>
                <a:lnTo>
                  <a:pt x="13431" y="1503"/>
                </a:lnTo>
                <a:lnTo>
                  <a:pt x="13481" y="1278"/>
                </a:lnTo>
                <a:lnTo>
                  <a:pt x="13481" y="1103"/>
                </a:lnTo>
                <a:lnTo>
                  <a:pt x="13431" y="952"/>
                </a:lnTo>
                <a:lnTo>
                  <a:pt x="13356" y="777"/>
                </a:lnTo>
                <a:lnTo>
                  <a:pt x="13256" y="626"/>
                </a:lnTo>
                <a:lnTo>
                  <a:pt x="13080" y="526"/>
                </a:lnTo>
                <a:lnTo>
                  <a:pt x="12930" y="426"/>
                </a:lnTo>
                <a:lnTo>
                  <a:pt x="12704" y="301"/>
                </a:lnTo>
                <a:lnTo>
                  <a:pt x="12278" y="175"/>
                </a:lnTo>
                <a:lnTo>
                  <a:pt x="11802" y="25"/>
                </a:lnTo>
                <a:lnTo>
                  <a:pt x="11276" y="0"/>
                </a:lnTo>
                <a:lnTo>
                  <a:pt x="10825" y="0"/>
                </a:lnTo>
                <a:lnTo>
                  <a:pt x="10324" y="0"/>
                </a:lnTo>
                <a:lnTo>
                  <a:pt x="9848" y="25"/>
                </a:lnTo>
                <a:lnTo>
                  <a:pt x="9347" y="175"/>
                </a:lnTo>
                <a:lnTo>
                  <a:pt x="8921" y="301"/>
                </a:lnTo>
                <a:lnTo>
                  <a:pt x="8695" y="426"/>
                </a:lnTo>
                <a:lnTo>
                  <a:pt x="8545" y="526"/>
                </a:lnTo>
                <a:lnTo>
                  <a:pt x="8394" y="626"/>
                </a:lnTo>
                <a:lnTo>
                  <a:pt x="8269" y="777"/>
                </a:lnTo>
                <a:lnTo>
                  <a:pt x="8169" y="952"/>
                </a:lnTo>
                <a:lnTo>
                  <a:pt x="8144" y="1103"/>
                </a:lnTo>
                <a:lnTo>
                  <a:pt x="8144" y="1278"/>
                </a:lnTo>
                <a:lnTo>
                  <a:pt x="8219" y="1503"/>
                </a:lnTo>
                <a:lnTo>
                  <a:pt x="7618" y="1704"/>
                </a:lnTo>
                <a:lnTo>
                  <a:pt x="7066" y="1929"/>
                </a:lnTo>
                <a:lnTo>
                  <a:pt x="6490" y="2205"/>
                </a:lnTo>
                <a:lnTo>
                  <a:pt x="5939" y="2456"/>
                </a:lnTo>
                <a:lnTo>
                  <a:pt x="5438" y="2781"/>
                </a:lnTo>
                <a:lnTo>
                  <a:pt x="4961" y="3132"/>
                </a:lnTo>
                <a:lnTo>
                  <a:pt x="4485" y="3533"/>
                </a:lnTo>
                <a:lnTo>
                  <a:pt x="4059" y="3959"/>
                </a:lnTo>
                <a:lnTo>
                  <a:pt x="3633" y="4385"/>
                </a:lnTo>
                <a:lnTo>
                  <a:pt x="3232" y="4861"/>
                </a:lnTo>
                <a:lnTo>
                  <a:pt x="2857" y="5387"/>
                </a:lnTo>
                <a:lnTo>
                  <a:pt x="2506" y="5889"/>
                </a:lnTo>
                <a:lnTo>
                  <a:pt x="2205" y="6465"/>
                </a:lnTo>
                <a:lnTo>
                  <a:pt x="1955" y="7016"/>
                </a:lnTo>
                <a:lnTo>
                  <a:pt x="1729" y="7568"/>
                </a:lnTo>
                <a:lnTo>
                  <a:pt x="1529" y="8169"/>
                </a:lnTo>
                <a:lnTo>
                  <a:pt x="1303" y="8144"/>
                </a:lnTo>
                <a:lnTo>
                  <a:pt x="1128" y="8144"/>
                </a:lnTo>
                <a:lnTo>
                  <a:pt x="977" y="8169"/>
                </a:lnTo>
                <a:lnTo>
                  <a:pt x="802" y="8269"/>
                </a:lnTo>
                <a:lnTo>
                  <a:pt x="652" y="8344"/>
                </a:lnTo>
                <a:lnTo>
                  <a:pt x="526" y="8520"/>
                </a:lnTo>
                <a:lnTo>
                  <a:pt x="451" y="8695"/>
                </a:lnTo>
                <a:lnTo>
                  <a:pt x="326" y="8896"/>
                </a:lnTo>
                <a:lnTo>
                  <a:pt x="200" y="9347"/>
                </a:lnTo>
                <a:lnTo>
                  <a:pt x="50" y="9823"/>
                </a:lnTo>
                <a:lnTo>
                  <a:pt x="0" y="10324"/>
                </a:lnTo>
                <a:lnTo>
                  <a:pt x="0" y="10800"/>
                </a:lnTo>
                <a:lnTo>
                  <a:pt x="0" y="11276"/>
                </a:lnTo>
                <a:lnTo>
                  <a:pt x="50" y="11727"/>
                </a:lnTo>
                <a:lnTo>
                  <a:pt x="200" y="12253"/>
                </a:lnTo>
                <a:lnTo>
                  <a:pt x="326" y="12704"/>
                </a:lnTo>
                <a:lnTo>
                  <a:pt x="451" y="12905"/>
                </a:lnTo>
                <a:lnTo>
                  <a:pt x="526" y="13080"/>
                </a:lnTo>
                <a:lnTo>
                  <a:pt x="652" y="13206"/>
                </a:lnTo>
                <a:lnTo>
                  <a:pt x="802" y="13331"/>
                </a:lnTo>
                <a:lnTo>
                  <a:pt x="977" y="13406"/>
                </a:lnTo>
                <a:lnTo>
                  <a:pt x="1128" y="13456"/>
                </a:lnTo>
                <a:lnTo>
                  <a:pt x="1303" y="13456"/>
                </a:lnTo>
                <a:lnTo>
                  <a:pt x="1529" y="13406"/>
                </a:lnTo>
                <a:lnTo>
                  <a:pt x="1729" y="13982"/>
                </a:lnTo>
                <a:lnTo>
                  <a:pt x="1955" y="14584"/>
                </a:lnTo>
                <a:lnTo>
                  <a:pt x="2255" y="15135"/>
                </a:lnTo>
                <a:lnTo>
                  <a:pt x="2556" y="15736"/>
                </a:lnTo>
                <a:lnTo>
                  <a:pt x="2907" y="16263"/>
                </a:lnTo>
                <a:lnTo>
                  <a:pt x="3283" y="16764"/>
                </a:lnTo>
                <a:lnTo>
                  <a:pt x="3684" y="17240"/>
                </a:lnTo>
                <a:lnTo>
                  <a:pt x="4110" y="17741"/>
                </a:lnTo>
                <a:lnTo>
                  <a:pt x="4535" y="18117"/>
                </a:lnTo>
                <a:lnTo>
                  <a:pt x="5012" y="18493"/>
                </a:lnTo>
                <a:lnTo>
                  <a:pt x="5463" y="18844"/>
                </a:lnTo>
                <a:lnTo>
                  <a:pt x="5989" y="19144"/>
                </a:lnTo>
                <a:lnTo>
                  <a:pt x="6490" y="19420"/>
                </a:lnTo>
                <a:lnTo>
                  <a:pt x="7066" y="19645"/>
                </a:lnTo>
                <a:lnTo>
                  <a:pt x="7618" y="19921"/>
                </a:lnTo>
                <a:lnTo>
                  <a:pt x="8219" y="20071"/>
                </a:lnTo>
                <a:lnTo>
                  <a:pt x="8144" y="20297"/>
                </a:lnTo>
                <a:lnTo>
                  <a:pt x="8144" y="20472"/>
                </a:lnTo>
                <a:lnTo>
                  <a:pt x="8169" y="20648"/>
                </a:lnTo>
                <a:lnTo>
                  <a:pt x="8269" y="20823"/>
                </a:lnTo>
                <a:lnTo>
                  <a:pt x="8394" y="20948"/>
                </a:lnTo>
                <a:lnTo>
                  <a:pt x="8545" y="21074"/>
                </a:lnTo>
                <a:lnTo>
                  <a:pt x="8695" y="21149"/>
                </a:lnTo>
                <a:lnTo>
                  <a:pt x="8921" y="21299"/>
                </a:lnTo>
                <a:lnTo>
                  <a:pt x="9347" y="21425"/>
                </a:lnTo>
                <a:lnTo>
                  <a:pt x="9848" y="21550"/>
                </a:lnTo>
                <a:lnTo>
                  <a:pt x="10324" y="21600"/>
                </a:lnTo>
                <a:lnTo>
                  <a:pt x="10825" y="21600"/>
                </a:lnTo>
                <a:lnTo>
                  <a:pt x="11276" y="21600"/>
                </a:lnTo>
                <a:lnTo>
                  <a:pt x="11802" y="21550"/>
                </a:lnTo>
                <a:lnTo>
                  <a:pt x="12278" y="21425"/>
                </a:lnTo>
                <a:lnTo>
                  <a:pt x="12704" y="21299"/>
                </a:lnTo>
                <a:lnTo>
                  <a:pt x="12930" y="21149"/>
                </a:lnTo>
                <a:lnTo>
                  <a:pt x="13080" y="21074"/>
                </a:lnTo>
                <a:lnTo>
                  <a:pt x="13256" y="20948"/>
                </a:lnTo>
                <a:lnTo>
                  <a:pt x="13356" y="20823"/>
                </a:lnTo>
                <a:lnTo>
                  <a:pt x="13431" y="20648"/>
                </a:lnTo>
                <a:lnTo>
                  <a:pt x="13481" y="20472"/>
                </a:lnTo>
                <a:lnTo>
                  <a:pt x="13481" y="20297"/>
                </a:lnTo>
                <a:lnTo>
                  <a:pt x="13431" y="20071"/>
                </a:lnTo>
                <a:lnTo>
                  <a:pt x="14032" y="19871"/>
                </a:lnTo>
                <a:lnTo>
                  <a:pt x="14609" y="19645"/>
                </a:lnTo>
                <a:lnTo>
                  <a:pt x="15135" y="19395"/>
                </a:lnTo>
                <a:lnTo>
                  <a:pt x="15686" y="19094"/>
                </a:lnTo>
                <a:lnTo>
                  <a:pt x="16213" y="18768"/>
                </a:lnTo>
                <a:lnTo>
                  <a:pt x="16739" y="18393"/>
                </a:lnTo>
                <a:lnTo>
                  <a:pt x="17165" y="18017"/>
                </a:lnTo>
                <a:lnTo>
                  <a:pt x="17641" y="17591"/>
                </a:lnTo>
                <a:close/>
              </a:path>
              <a:path w="21600" h="21600">
                <a:moveTo>
                  <a:pt x="13431" y="1503"/>
                </a:moveTo>
                <a:lnTo>
                  <a:pt x="13080" y="1428"/>
                </a:lnTo>
                <a:lnTo>
                  <a:pt x="12780" y="1378"/>
                </a:lnTo>
                <a:lnTo>
                  <a:pt x="12479" y="1278"/>
                </a:lnTo>
                <a:lnTo>
                  <a:pt x="12128" y="1253"/>
                </a:lnTo>
                <a:lnTo>
                  <a:pt x="11802" y="1203"/>
                </a:lnTo>
                <a:lnTo>
                  <a:pt x="11477" y="1203"/>
                </a:lnTo>
                <a:lnTo>
                  <a:pt x="11151" y="1153"/>
                </a:lnTo>
                <a:lnTo>
                  <a:pt x="10825" y="1153"/>
                </a:lnTo>
                <a:lnTo>
                  <a:pt x="10449" y="1153"/>
                </a:lnTo>
                <a:lnTo>
                  <a:pt x="10174" y="1203"/>
                </a:lnTo>
                <a:lnTo>
                  <a:pt x="9798" y="1203"/>
                </a:lnTo>
                <a:lnTo>
                  <a:pt x="9472" y="1253"/>
                </a:lnTo>
                <a:lnTo>
                  <a:pt x="9171" y="1278"/>
                </a:lnTo>
                <a:lnTo>
                  <a:pt x="8820" y="1378"/>
                </a:lnTo>
                <a:lnTo>
                  <a:pt x="8545" y="1428"/>
                </a:lnTo>
                <a:lnTo>
                  <a:pt x="8219" y="1503"/>
                </a:lnTo>
                <a:moveTo>
                  <a:pt x="1529" y="8169"/>
                </a:moveTo>
                <a:lnTo>
                  <a:pt x="1453" y="8520"/>
                </a:lnTo>
                <a:lnTo>
                  <a:pt x="1403" y="8820"/>
                </a:lnTo>
                <a:lnTo>
                  <a:pt x="1303" y="9121"/>
                </a:lnTo>
                <a:lnTo>
                  <a:pt x="1253" y="9447"/>
                </a:lnTo>
                <a:lnTo>
                  <a:pt x="1228" y="9823"/>
                </a:lnTo>
                <a:lnTo>
                  <a:pt x="1228" y="10098"/>
                </a:lnTo>
                <a:lnTo>
                  <a:pt x="1178" y="10449"/>
                </a:lnTo>
                <a:lnTo>
                  <a:pt x="1178" y="10800"/>
                </a:lnTo>
                <a:lnTo>
                  <a:pt x="1178" y="11126"/>
                </a:lnTo>
                <a:lnTo>
                  <a:pt x="1228" y="11502"/>
                </a:lnTo>
                <a:lnTo>
                  <a:pt x="1228" y="11777"/>
                </a:lnTo>
                <a:lnTo>
                  <a:pt x="1253" y="12128"/>
                </a:lnTo>
                <a:lnTo>
                  <a:pt x="1303" y="12429"/>
                </a:lnTo>
                <a:lnTo>
                  <a:pt x="1403" y="12755"/>
                </a:lnTo>
                <a:lnTo>
                  <a:pt x="1453" y="13080"/>
                </a:lnTo>
                <a:lnTo>
                  <a:pt x="1529" y="13406"/>
                </a:lnTo>
                <a:moveTo>
                  <a:pt x="13431" y="20071"/>
                </a:moveTo>
                <a:lnTo>
                  <a:pt x="13080" y="20172"/>
                </a:lnTo>
                <a:lnTo>
                  <a:pt x="12780" y="20222"/>
                </a:lnTo>
                <a:lnTo>
                  <a:pt x="12479" y="20297"/>
                </a:lnTo>
                <a:lnTo>
                  <a:pt x="12128" y="20347"/>
                </a:lnTo>
                <a:lnTo>
                  <a:pt x="11802" y="20397"/>
                </a:lnTo>
                <a:lnTo>
                  <a:pt x="11477" y="20397"/>
                </a:lnTo>
                <a:lnTo>
                  <a:pt x="11151" y="20447"/>
                </a:lnTo>
                <a:lnTo>
                  <a:pt x="10825" y="20447"/>
                </a:lnTo>
                <a:lnTo>
                  <a:pt x="10449" y="20447"/>
                </a:lnTo>
                <a:lnTo>
                  <a:pt x="10174" y="20397"/>
                </a:lnTo>
                <a:lnTo>
                  <a:pt x="9798" y="20397"/>
                </a:lnTo>
                <a:lnTo>
                  <a:pt x="9472" y="20347"/>
                </a:lnTo>
                <a:lnTo>
                  <a:pt x="9171" y="20297"/>
                </a:lnTo>
                <a:lnTo>
                  <a:pt x="8820" y="20222"/>
                </a:lnTo>
                <a:lnTo>
                  <a:pt x="8545" y="20172"/>
                </a:lnTo>
                <a:lnTo>
                  <a:pt x="8219" y="20071"/>
                </a:lnTo>
                <a:moveTo>
                  <a:pt x="20071" y="13406"/>
                </a:moveTo>
                <a:lnTo>
                  <a:pt x="20172" y="13080"/>
                </a:lnTo>
                <a:lnTo>
                  <a:pt x="20222" y="12755"/>
                </a:lnTo>
                <a:lnTo>
                  <a:pt x="20297" y="12429"/>
                </a:lnTo>
                <a:lnTo>
                  <a:pt x="20347" y="12128"/>
                </a:lnTo>
                <a:lnTo>
                  <a:pt x="20397" y="11777"/>
                </a:lnTo>
                <a:lnTo>
                  <a:pt x="20447" y="11502"/>
                </a:lnTo>
                <a:lnTo>
                  <a:pt x="20447" y="11126"/>
                </a:lnTo>
                <a:lnTo>
                  <a:pt x="20447" y="10800"/>
                </a:lnTo>
                <a:lnTo>
                  <a:pt x="20447" y="10449"/>
                </a:lnTo>
                <a:lnTo>
                  <a:pt x="20447" y="10098"/>
                </a:lnTo>
                <a:lnTo>
                  <a:pt x="20397" y="9823"/>
                </a:lnTo>
                <a:lnTo>
                  <a:pt x="20347" y="9447"/>
                </a:lnTo>
                <a:lnTo>
                  <a:pt x="20297" y="9121"/>
                </a:lnTo>
                <a:lnTo>
                  <a:pt x="20222" y="8820"/>
                </a:lnTo>
                <a:lnTo>
                  <a:pt x="20172" y="8520"/>
                </a:lnTo>
                <a:lnTo>
                  <a:pt x="20071" y="8169"/>
                </a:ln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3"/>
          <p:cNvSpPr/>
          <p:nvPr/>
        </p:nvSpPr>
        <p:spPr>
          <a:xfrm>
            <a:off x="1371600" y="2658960"/>
            <a:ext cx="632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Maiandra GD"/>
              </a:rPr>
              <a:t>c</a:t>
            </a:r>
            <a:r>
              <a:rPr b="0" lang="en-US" sz="4000" spc="-1" strike="noStrike" u="sng">
                <a:solidFill>
                  <a:srgbClr val="ffff00"/>
                </a:solidFill>
                <a:uFillTx/>
                <a:latin typeface="Maiandra GD"/>
              </a:rPr>
              <a:t>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8355960" y="6400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" descr="C:\Users\Jennife\AppData\Local\Microsoft\Windows\Temporary Internet Files\Content.IE5\9L9ABQAA\MP900427655[1].jpg"/>
          <p:cNvPicPr/>
          <p:nvPr/>
        </p:nvPicPr>
        <p:blipFill>
          <a:blip r:embed="rId1"/>
          <a:stretch/>
        </p:blipFill>
        <p:spPr>
          <a:xfrm>
            <a:off x="3048120" y="3581280"/>
            <a:ext cx="3309840" cy="240516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2971800" y="10666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at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2">
            <a:hlinkClick r:id="rId2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Box 19"/>
          <p:cNvSpPr/>
          <p:nvPr/>
        </p:nvSpPr>
        <p:spPr>
          <a:xfrm>
            <a:off x="1676520" y="220968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Kartika"/>
                <a:ea typeface="Kartika"/>
              </a:rPr>
              <a:t>6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able"/>
          <p:cNvSpPr/>
          <p:nvPr/>
        </p:nvSpPr>
        <p:spPr>
          <a:xfrm>
            <a:off x="3276720" y="2819520"/>
            <a:ext cx="2592360" cy="2385720"/>
          </a:xfrm>
          <a:custGeom>
            <a:avLst/>
            <a:gdLst>
              <a:gd name="textAreaLeft" fmla="*/ 481680 w 2592360"/>
              <a:gd name="textAreaRight" fmla="*/ 2115000 w 2592360"/>
              <a:gd name="textAreaTop" fmla="*/ 496080 h 2385720"/>
              <a:gd name="textAreaBottom" fmla="*/ 1891080 h 2385720"/>
            </a:gdLst>
            <a:ahLst/>
            <a:rect l="textAreaLeft" t="textAreaTop" r="textAreaRight" b="textAreaBottom"/>
            <a:pathLst>
              <a:path w="21600" h="21600">
                <a:moveTo>
                  <a:pt x="17641" y="17591"/>
                </a:moveTo>
                <a:lnTo>
                  <a:pt x="18067" y="17165"/>
                </a:lnTo>
                <a:lnTo>
                  <a:pt x="18443" y="16689"/>
                </a:lnTo>
                <a:lnTo>
                  <a:pt x="18794" y="16162"/>
                </a:lnTo>
                <a:lnTo>
                  <a:pt x="19144" y="15661"/>
                </a:lnTo>
                <a:lnTo>
                  <a:pt x="19420" y="15135"/>
                </a:lnTo>
                <a:lnTo>
                  <a:pt x="19645" y="14584"/>
                </a:lnTo>
                <a:lnTo>
                  <a:pt x="19871" y="13982"/>
                </a:lnTo>
                <a:lnTo>
                  <a:pt x="20071" y="13406"/>
                </a:lnTo>
                <a:lnTo>
                  <a:pt x="20297" y="13456"/>
                </a:lnTo>
                <a:lnTo>
                  <a:pt x="20472" y="13456"/>
                </a:lnTo>
                <a:lnTo>
                  <a:pt x="20648" y="13406"/>
                </a:lnTo>
                <a:lnTo>
                  <a:pt x="20823" y="13331"/>
                </a:lnTo>
                <a:lnTo>
                  <a:pt x="20948" y="13206"/>
                </a:lnTo>
                <a:lnTo>
                  <a:pt x="21099" y="13080"/>
                </a:lnTo>
                <a:lnTo>
                  <a:pt x="21149" y="12905"/>
                </a:lnTo>
                <a:lnTo>
                  <a:pt x="21299" y="12704"/>
                </a:lnTo>
                <a:lnTo>
                  <a:pt x="21425" y="12253"/>
                </a:lnTo>
                <a:lnTo>
                  <a:pt x="21550" y="11727"/>
                </a:lnTo>
                <a:lnTo>
                  <a:pt x="21600" y="11276"/>
                </a:lnTo>
                <a:lnTo>
                  <a:pt x="21600" y="10800"/>
                </a:lnTo>
                <a:lnTo>
                  <a:pt x="21600" y="10324"/>
                </a:lnTo>
                <a:lnTo>
                  <a:pt x="21550" y="9823"/>
                </a:lnTo>
                <a:lnTo>
                  <a:pt x="21425" y="9347"/>
                </a:lnTo>
                <a:lnTo>
                  <a:pt x="21299" y="8896"/>
                </a:lnTo>
                <a:lnTo>
                  <a:pt x="21149" y="8695"/>
                </a:lnTo>
                <a:lnTo>
                  <a:pt x="21099" y="8520"/>
                </a:lnTo>
                <a:lnTo>
                  <a:pt x="20948" y="8344"/>
                </a:lnTo>
                <a:lnTo>
                  <a:pt x="20823" y="8269"/>
                </a:lnTo>
                <a:lnTo>
                  <a:pt x="20648" y="8169"/>
                </a:lnTo>
                <a:lnTo>
                  <a:pt x="20472" y="8144"/>
                </a:lnTo>
                <a:lnTo>
                  <a:pt x="20297" y="8144"/>
                </a:lnTo>
                <a:lnTo>
                  <a:pt x="20071" y="8169"/>
                </a:lnTo>
                <a:lnTo>
                  <a:pt x="19871" y="7618"/>
                </a:lnTo>
                <a:lnTo>
                  <a:pt x="19645" y="7016"/>
                </a:lnTo>
                <a:lnTo>
                  <a:pt x="19420" y="6490"/>
                </a:lnTo>
                <a:lnTo>
                  <a:pt x="19144" y="5939"/>
                </a:lnTo>
                <a:lnTo>
                  <a:pt x="18794" y="5438"/>
                </a:lnTo>
                <a:lnTo>
                  <a:pt x="18443" y="4961"/>
                </a:lnTo>
                <a:lnTo>
                  <a:pt x="18067" y="4460"/>
                </a:lnTo>
                <a:lnTo>
                  <a:pt x="17691" y="4034"/>
                </a:lnTo>
                <a:lnTo>
                  <a:pt x="17215" y="3608"/>
                </a:lnTo>
                <a:lnTo>
                  <a:pt x="16739" y="3232"/>
                </a:lnTo>
                <a:lnTo>
                  <a:pt x="16263" y="2832"/>
                </a:lnTo>
                <a:lnTo>
                  <a:pt x="15686" y="2506"/>
                </a:lnTo>
                <a:lnTo>
                  <a:pt x="15185" y="2205"/>
                </a:lnTo>
                <a:lnTo>
                  <a:pt x="14609" y="1929"/>
                </a:lnTo>
                <a:lnTo>
                  <a:pt x="14032" y="1704"/>
                </a:lnTo>
                <a:lnTo>
                  <a:pt x="13431" y="1503"/>
                </a:lnTo>
                <a:lnTo>
                  <a:pt x="13481" y="1278"/>
                </a:lnTo>
                <a:lnTo>
                  <a:pt x="13481" y="1103"/>
                </a:lnTo>
                <a:lnTo>
                  <a:pt x="13431" y="952"/>
                </a:lnTo>
                <a:lnTo>
                  <a:pt x="13356" y="777"/>
                </a:lnTo>
                <a:lnTo>
                  <a:pt x="13256" y="626"/>
                </a:lnTo>
                <a:lnTo>
                  <a:pt x="13080" y="526"/>
                </a:lnTo>
                <a:lnTo>
                  <a:pt x="12930" y="426"/>
                </a:lnTo>
                <a:lnTo>
                  <a:pt x="12704" y="301"/>
                </a:lnTo>
                <a:lnTo>
                  <a:pt x="12278" y="175"/>
                </a:lnTo>
                <a:lnTo>
                  <a:pt x="11802" y="25"/>
                </a:lnTo>
                <a:lnTo>
                  <a:pt x="11276" y="0"/>
                </a:lnTo>
                <a:lnTo>
                  <a:pt x="10825" y="0"/>
                </a:lnTo>
                <a:lnTo>
                  <a:pt x="10324" y="0"/>
                </a:lnTo>
                <a:lnTo>
                  <a:pt x="9848" y="25"/>
                </a:lnTo>
                <a:lnTo>
                  <a:pt x="9347" y="175"/>
                </a:lnTo>
                <a:lnTo>
                  <a:pt x="8921" y="301"/>
                </a:lnTo>
                <a:lnTo>
                  <a:pt x="8695" y="426"/>
                </a:lnTo>
                <a:lnTo>
                  <a:pt x="8545" y="526"/>
                </a:lnTo>
                <a:lnTo>
                  <a:pt x="8394" y="626"/>
                </a:lnTo>
                <a:lnTo>
                  <a:pt x="8269" y="777"/>
                </a:lnTo>
                <a:lnTo>
                  <a:pt x="8169" y="952"/>
                </a:lnTo>
                <a:lnTo>
                  <a:pt x="8144" y="1103"/>
                </a:lnTo>
                <a:lnTo>
                  <a:pt x="8144" y="1278"/>
                </a:lnTo>
                <a:lnTo>
                  <a:pt x="8219" y="1503"/>
                </a:lnTo>
                <a:lnTo>
                  <a:pt x="7618" y="1704"/>
                </a:lnTo>
                <a:lnTo>
                  <a:pt x="7066" y="1929"/>
                </a:lnTo>
                <a:lnTo>
                  <a:pt x="6490" y="2205"/>
                </a:lnTo>
                <a:lnTo>
                  <a:pt x="5939" y="2456"/>
                </a:lnTo>
                <a:lnTo>
                  <a:pt x="5438" y="2781"/>
                </a:lnTo>
                <a:lnTo>
                  <a:pt x="4961" y="3132"/>
                </a:lnTo>
                <a:lnTo>
                  <a:pt x="4485" y="3533"/>
                </a:lnTo>
                <a:lnTo>
                  <a:pt x="4059" y="3959"/>
                </a:lnTo>
                <a:lnTo>
                  <a:pt x="3633" y="4385"/>
                </a:lnTo>
                <a:lnTo>
                  <a:pt x="3232" y="4861"/>
                </a:lnTo>
                <a:lnTo>
                  <a:pt x="2857" y="5387"/>
                </a:lnTo>
                <a:lnTo>
                  <a:pt x="2506" y="5889"/>
                </a:lnTo>
                <a:lnTo>
                  <a:pt x="2205" y="6465"/>
                </a:lnTo>
                <a:lnTo>
                  <a:pt x="1955" y="7016"/>
                </a:lnTo>
                <a:lnTo>
                  <a:pt x="1729" y="7568"/>
                </a:lnTo>
                <a:lnTo>
                  <a:pt x="1529" y="8169"/>
                </a:lnTo>
                <a:lnTo>
                  <a:pt x="1303" y="8144"/>
                </a:lnTo>
                <a:lnTo>
                  <a:pt x="1128" y="8144"/>
                </a:lnTo>
                <a:lnTo>
                  <a:pt x="977" y="8169"/>
                </a:lnTo>
                <a:lnTo>
                  <a:pt x="802" y="8269"/>
                </a:lnTo>
                <a:lnTo>
                  <a:pt x="652" y="8344"/>
                </a:lnTo>
                <a:lnTo>
                  <a:pt x="526" y="8520"/>
                </a:lnTo>
                <a:lnTo>
                  <a:pt x="451" y="8695"/>
                </a:lnTo>
                <a:lnTo>
                  <a:pt x="326" y="8896"/>
                </a:lnTo>
                <a:lnTo>
                  <a:pt x="200" y="9347"/>
                </a:lnTo>
                <a:lnTo>
                  <a:pt x="50" y="9823"/>
                </a:lnTo>
                <a:lnTo>
                  <a:pt x="0" y="10324"/>
                </a:lnTo>
                <a:lnTo>
                  <a:pt x="0" y="10800"/>
                </a:lnTo>
                <a:lnTo>
                  <a:pt x="0" y="11276"/>
                </a:lnTo>
                <a:lnTo>
                  <a:pt x="50" y="11727"/>
                </a:lnTo>
                <a:lnTo>
                  <a:pt x="200" y="12253"/>
                </a:lnTo>
                <a:lnTo>
                  <a:pt x="326" y="12704"/>
                </a:lnTo>
                <a:lnTo>
                  <a:pt x="451" y="12905"/>
                </a:lnTo>
                <a:lnTo>
                  <a:pt x="526" y="13080"/>
                </a:lnTo>
                <a:lnTo>
                  <a:pt x="652" y="13206"/>
                </a:lnTo>
                <a:lnTo>
                  <a:pt x="802" y="13331"/>
                </a:lnTo>
                <a:lnTo>
                  <a:pt x="977" y="13406"/>
                </a:lnTo>
                <a:lnTo>
                  <a:pt x="1128" y="13456"/>
                </a:lnTo>
                <a:lnTo>
                  <a:pt x="1303" y="13456"/>
                </a:lnTo>
                <a:lnTo>
                  <a:pt x="1529" y="13406"/>
                </a:lnTo>
                <a:lnTo>
                  <a:pt x="1729" y="13982"/>
                </a:lnTo>
                <a:lnTo>
                  <a:pt x="1955" y="14584"/>
                </a:lnTo>
                <a:lnTo>
                  <a:pt x="2255" y="15135"/>
                </a:lnTo>
                <a:lnTo>
                  <a:pt x="2556" y="15736"/>
                </a:lnTo>
                <a:lnTo>
                  <a:pt x="2907" y="16263"/>
                </a:lnTo>
                <a:lnTo>
                  <a:pt x="3283" y="16764"/>
                </a:lnTo>
                <a:lnTo>
                  <a:pt x="3684" y="17240"/>
                </a:lnTo>
                <a:lnTo>
                  <a:pt x="4110" y="17741"/>
                </a:lnTo>
                <a:lnTo>
                  <a:pt x="4535" y="18117"/>
                </a:lnTo>
                <a:lnTo>
                  <a:pt x="5012" y="18493"/>
                </a:lnTo>
                <a:lnTo>
                  <a:pt x="5463" y="18844"/>
                </a:lnTo>
                <a:lnTo>
                  <a:pt x="5989" y="19144"/>
                </a:lnTo>
                <a:lnTo>
                  <a:pt x="6490" y="19420"/>
                </a:lnTo>
                <a:lnTo>
                  <a:pt x="7066" y="19645"/>
                </a:lnTo>
                <a:lnTo>
                  <a:pt x="7618" y="19921"/>
                </a:lnTo>
                <a:lnTo>
                  <a:pt x="8219" y="20071"/>
                </a:lnTo>
                <a:lnTo>
                  <a:pt x="8144" y="20297"/>
                </a:lnTo>
                <a:lnTo>
                  <a:pt x="8144" y="20472"/>
                </a:lnTo>
                <a:lnTo>
                  <a:pt x="8169" y="20648"/>
                </a:lnTo>
                <a:lnTo>
                  <a:pt x="8269" y="20823"/>
                </a:lnTo>
                <a:lnTo>
                  <a:pt x="8394" y="20948"/>
                </a:lnTo>
                <a:lnTo>
                  <a:pt x="8545" y="21074"/>
                </a:lnTo>
                <a:lnTo>
                  <a:pt x="8695" y="21149"/>
                </a:lnTo>
                <a:lnTo>
                  <a:pt x="8921" y="21299"/>
                </a:lnTo>
                <a:lnTo>
                  <a:pt x="9347" y="21425"/>
                </a:lnTo>
                <a:lnTo>
                  <a:pt x="9848" y="21550"/>
                </a:lnTo>
                <a:lnTo>
                  <a:pt x="10324" y="21600"/>
                </a:lnTo>
                <a:lnTo>
                  <a:pt x="10825" y="21600"/>
                </a:lnTo>
                <a:lnTo>
                  <a:pt x="11276" y="21600"/>
                </a:lnTo>
                <a:lnTo>
                  <a:pt x="11802" y="21550"/>
                </a:lnTo>
                <a:lnTo>
                  <a:pt x="12278" y="21425"/>
                </a:lnTo>
                <a:lnTo>
                  <a:pt x="12704" y="21299"/>
                </a:lnTo>
                <a:lnTo>
                  <a:pt x="12930" y="21149"/>
                </a:lnTo>
                <a:lnTo>
                  <a:pt x="13080" y="21074"/>
                </a:lnTo>
                <a:lnTo>
                  <a:pt x="13256" y="20948"/>
                </a:lnTo>
                <a:lnTo>
                  <a:pt x="13356" y="20823"/>
                </a:lnTo>
                <a:lnTo>
                  <a:pt x="13431" y="20648"/>
                </a:lnTo>
                <a:lnTo>
                  <a:pt x="13481" y="20472"/>
                </a:lnTo>
                <a:lnTo>
                  <a:pt x="13481" y="20297"/>
                </a:lnTo>
                <a:lnTo>
                  <a:pt x="13431" y="20071"/>
                </a:lnTo>
                <a:lnTo>
                  <a:pt x="14032" y="19871"/>
                </a:lnTo>
                <a:lnTo>
                  <a:pt x="14609" y="19645"/>
                </a:lnTo>
                <a:lnTo>
                  <a:pt x="15135" y="19395"/>
                </a:lnTo>
                <a:lnTo>
                  <a:pt x="15686" y="19094"/>
                </a:lnTo>
                <a:lnTo>
                  <a:pt x="16213" y="18768"/>
                </a:lnTo>
                <a:lnTo>
                  <a:pt x="16739" y="18393"/>
                </a:lnTo>
                <a:lnTo>
                  <a:pt x="17165" y="18017"/>
                </a:lnTo>
                <a:lnTo>
                  <a:pt x="17641" y="17591"/>
                </a:lnTo>
                <a:close/>
              </a:path>
              <a:path w="21600" h="21600">
                <a:moveTo>
                  <a:pt x="13431" y="1503"/>
                </a:moveTo>
                <a:lnTo>
                  <a:pt x="13080" y="1428"/>
                </a:lnTo>
                <a:lnTo>
                  <a:pt x="12780" y="1378"/>
                </a:lnTo>
                <a:lnTo>
                  <a:pt x="12479" y="1278"/>
                </a:lnTo>
                <a:lnTo>
                  <a:pt x="12128" y="1253"/>
                </a:lnTo>
                <a:lnTo>
                  <a:pt x="11802" y="1203"/>
                </a:lnTo>
                <a:lnTo>
                  <a:pt x="11477" y="1203"/>
                </a:lnTo>
                <a:lnTo>
                  <a:pt x="11151" y="1153"/>
                </a:lnTo>
                <a:lnTo>
                  <a:pt x="10825" y="1153"/>
                </a:lnTo>
                <a:lnTo>
                  <a:pt x="10449" y="1153"/>
                </a:lnTo>
                <a:lnTo>
                  <a:pt x="10174" y="1203"/>
                </a:lnTo>
                <a:lnTo>
                  <a:pt x="9798" y="1203"/>
                </a:lnTo>
                <a:lnTo>
                  <a:pt x="9472" y="1253"/>
                </a:lnTo>
                <a:lnTo>
                  <a:pt x="9171" y="1278"/>
                </a:lnTo>
                <a:lnTo>
                  <a:pt x="8820" y="1378"/>
                </a:lnTo>
                <a:lnTo>
                  <a:pt x="8545" y="1428"/>
                </a:lnTo>
                <a:lnTo>
                  <a:pt x="8219" y="1503"/>
                </a:lnTo>
                <a:moveTo>
                  <a:pt x="1529" y="8169"/>
                </a:moveTo>
                <a:lnTo>
                  <a:pt x="1453" y="8520"/>
                </a:lnTo>
                <a:lnTo>
                  <a:pt x="1403" y="8820"/>
                </a:lnTo>
                <a:lnTo>
                  <a:pt x="1303" y="9121"/>
                </a:lnTo>
                <a:lnTo>
                  <a:pt x="1253" y="9447"/>
                </a:lnTo>
                <a:lnTo>
                  <a:pt x="1228" y="9823"/>
                </a:lnTo>
                <a:lnTo>
                  <a:pt x="1228" y="10098"/>
                </a:lnTo>
                <a:lnTo>
                  <a:pt x="1178" y="10449"/>
                </a:lnTo>
                <a:lnTo>
                  <a:pt x="1178" y="10800"/>
                </a:lnTo>
                <a:lnTo>
                  <a:pt x="1178" y="11126"/>
                </a:lnTo>
                <a:lnTo>
                  <a:pt x="1228" y="11502"/>
                </a:lnTo>
                <a:lnTo>
                  <a:pt x="1228" y="11777"/>
                </a:lnTo>
                <a:lnTo>
                  <a:pt x="1253" y="12128"/>
                </a:lnTo>
                <a:lnTo>
                  <a:pt x="1303" y="12429"/>
                </a:lnTo>
                <a:lnTo>
                  <a:pt x="1403" y="12755"/>
                </a:lnTo>
                <a:lnTo>
                  <a:pt x="1453" y="13080"/>
                </a:lnTo>
                <a:lnTo>
                  <a:pt x="1529" y="13406"/>
                </a:lnTo>
                <a:moveTo>
                  <a:pt x="13431" y="20071"/>
                </a:moveTo>
                <a:lnTo>
                  <a:pt x="13080" y="20172"/>
                </a:lnTo>
                <a:lnTo>
                  <a:pt x="12780" y="20222"/>
                </a:lnTo>
                <a:lnTo>
                  <a:pt x="12479" y="20297"/>
                </a:lnTo>
                <a:lnTo>
                  <a:pt x="12128" y="20347"/>
                </a:lnTo>
                <a:lnTo>
                  <a:pt x="11802" y="20397"/>
                </a:lnTo>
                <a:lnTo>
                  <a:pt x="11477" y="20397"/>
                </a:lnTo>
                <a:lnTo>
                  <a:pt x="11151" y="20447"/>
                </a:lnTo>
                <a:lnTo>
                  <a:pt x="10825" y="20447"/>
                </a:lnTo>
                <a:lnTo>
                  <a:pt x="10449" y="20447"/>
                </a:lnTo>
                <a:lnTo>
                  <a:pt x="10174" y="20397"/>
                </a:lnTo>
                <a:lnTo>
                  <a:pt x="9798" y="20397"/>
                </a:lnTo>
                <a:lnTo>
                  <a:pt x="9472" y="20347"/>
                </a:lnTo>
                <a:lnTo>
                  <a:pt x="9171" y="20297"/>
                </a:lnTo>
                <a:lnTo>
                  <a:pt x="8820" y="20222"/>
                </a:lnTo>
                <a:lnTo>
                  <a:pt x="8545" y="20172"/>
                </a:lnTo>
                <a:lnTo>
                  <a:pt x="8219" y="20071"/>
                </a:lnTo>
                <a:moveTo>
                  <a:pt x="20071" y="13406"/>
                </a:moveTo>
                <a:lnTo>
                  <a:pt x="20172" y="13080"/>
                </a:lnTo>
                <a:lnTo>
                  <a:pt x="20222" y="12755"/>
                </a:lnTo>
                <a:lnTo>
                  <a:pt x="20297" y="12429"/>
                </a:lnTo>
                <a:lnTo>
                  <a:pt x="20347" y="12128"/>
                </a:lnTo>
                <a:lnTo>
                  <a:pt x="20397" y="11777"/>
                </a:lnTo>
                <a:lnTo>
                  <a:pt x="20447" y="11502"/>
                </a:lnTo>
                <a:lnTo>
                  <a:pt x="20447" y="11126"/>
                </a:lnTo>
                <a:lnTo>
                  <a:pt x="20447" y="10800"/>
                </a:lnTo>
                <a:lnTo>
                  <a:pt x="20447" y="10449"/>
                </a:lnTo>
                <a:lnTo>
                  <a:pt x="20447" y="10098"/>
                </a:lnTo>
                <a:lnTo>
                  <a:pt x="20397" y="9823"/>
                </a:lnTo>
                <a:lnTo>
                  <a:pt x="20347" y="9447"/>
                </a:lnTo>
                <a:lnTo>
                  <a:pt x="20297" y="9121"/>
                </a:lnTo>
                <a:lnTo>
                  <a:pt x="20222" y="8820"/>
                </a:lnTo>
                <a:lnTo>
                  <a:pt x="20172" y="8520"/>
                </a:lnTo>
                <a:lnTo>
                  <a:pt x="20071" y="8169"/>
                </a:lnTo>
              </a:path>
            </a:pathLst>
          </a:custGeom>
          <a:solidFill>
            <a:srgbClr val="9966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5" descr="C:\Documents and Settings\jdempsey\Local Settings\Temporary Internet Files\Content.IE5\VR8Q88BS\MC900437757[1].wmf"/>
          <p:cNvPicPr/>
          <p:nvPr/>
        </p:nvPicPr>
        <p:blipFill>
          <a:blip r:embed="rId1"/>
          <a:stretch/>
        </p:blipFill>
        <p:spPr>
          <a:xfrm>
            <a:off x="4114800" y="3124080"/>
            <a:ext cx="263520" cy="35424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5" descr="C:\Documents and Settings\jdempsey\Local Settings\Temporary Internet Files\Content.IE5\VR8Q88BS\MC900437757[1].wmf"/>
          <p:cNvPicPr/>
          <p:nvPr/>
        </p:nvPicPr>
        <p:blipFill>
          <a:blip r:embed="rId2"/>
          <a:stretch/>
        </p:blipFill>
        <p:spPr>
          <a:xfrm>
            <a:off x="4419720" y="3124080"/>
            <a:ext cx="263520" cy="354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5" descr="C:\Documents and Settings\jdempsey\Local Settings\Temporary Internet Files\Content.IE5\VR8Q88BS\MC900437757[1].wmf"/>
          <p:cNvPicPr/>
          <p:nvPr/>
        </p:nvPicPr>
        <p:blipFill>
          <a:blip r:embed="rId3"/>
          <a:stretch/>
        </p:blipFill>
        <p:spPr>
          <a:xfrm>
            <a:off x="4800600" y="3276720"/>
            <a:ext cx="263520" cy="35388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5" descr="C:\Documents and Settings\jdempsey\Local Settings\Temporary Internet Files\Content.IE5\VR8Q88BS\MC900437757[1].wmf"/>
          <p:cNvPicPr/>
          <p:nvPr/>
        </p:nvPicPr>
        <p:blipFill>
          <a:blip r:embed="rId4"/>
          <a:stretch/>
        </p:blipFill>
        <p:spPr>
          <a:xfrm>
            <a:off x="5181480" y="3505320"/>
            <a:ext cx="263520" cy="35388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5" descr="C:\Documents and Settings\jdempsey\Local Settings\Temporary Internet Files\Content.IE5\VR8Q88BS\MC900437757[1].wmf"/>
          <p:cNvPicPr/>
          <p:nvPr/>
        </p:nvPicPr>
        <p:blipFill>
          <a:blip r:embed="rId5"/>
          <a:stretch/>
        </p:blipFill>
        <p:spPr>
          <a:xfrm>
            <a:off x="4419720" y="3809880"/>
            <a:ext cx="263520" cy="35424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5" descr="C:\Documents and Settings\jdempsey\Local Settings\Temporary Internet Files\Content.IE5\VR8Q88BS\MC900437757[1].wmf"/>
          <p:cNvPicPr/>
          <p:nvPr/>
        </p:nvPicPr>
        <p:blipFill>
          <a:blip r:embed="rId6"/>
          <a:stretch/>
        </p:blipFill>
        <p:spPr>
          <a:xfrm>
            <a:off x="3962520" y="3962520"/>
            <a:ext cx="263520" cy="35388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5" descr="C:\Documents and Settings\jdempsey\Local Settings\Temporary Internet Files\Content.IE5\VR8Q88BS\MC900437757[1].wmf"/>
          <p:cNvPicPr/>
          <p:nvPr/>
        </p:nvPicPr>
        <p:blipFill>
          <a:blip r:embed="rId7"/>
          <a:stretch/>
        </p:blipFill>
        <p:spPr>
          <a:xfrm>
            <a:off x="4343400" y="4343400"/>
            <a:ext cx="263520" cy="3538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5" descr="C:\Documents and Settings\jdempsey\Local Settings\Temporary Internet Files\Content.IE5\VR8Q88BS\MC900437757[1].wmf"/>
          <p:cNvPicPr/>
          <p:nvPr/>
        </p:nvPicPr>
        <p:blipFill>
          <a:blip r:embed="rId8"/>
          <a:stretch/>
        </p:blipFill>
        <p:spPr>
          <a:xfrm>
            <a:off x="4800600" y="4191120"/>
            <a:ext cx="263520" cy="3538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5" descr="C:\Documents and Settings\jdempsey\Local Settings\Temporary Internet Files\Content.IE5\VR8Q88BS\MC900437757[1].wmf"/>
          <p:cNvPicPr/>
          <p:nvPr/>
        </p:nvPicPr>
        <p:blipFill>
          <a:blip r:embed="rId9"/>
          <a:stretch/>
        </p:blipFill>
        <p:spPr>
          <a:xfrm>
            <a:off x="2895480" y="3429000"/>
            <a:ext cx="263520" cy="3538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5" descr="C:\Documents and Settings\jdempsey\Local Settings\Temporary Internet Files\Content.IE5\VR8Q88BS\MC900437757[1].wmf"/>
          <p:cNvPicPr/>
          <p:nvPr/>
        </p:nvPicPr>
        <p:blipFill>
          <a:blip r:embed="rId10"/>
          <a:stretch/>
        </p:blipFill>
        <p:spPr>
          <a:xfrm>
            <a:off x="2514600" y="3733920"/>
            <a:ext cx="263520" cy="35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TextBox 19"/>
          <p:cNvSpPr/>
          <p:nvPr/>
        </p:nvSpPr>
        <p:spPr>
          <a:xfrm>
            <a:off x="1981080" y="2657520"/>
            <a:ext cx="5105520" cy="61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There are 17 students in Mrs. Dempsey’s class.  2 students are absent today.  How many students are in Mrs. Dempsey’s clas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9" name="Picture 8" descr="C:\Documents and Settings\jdempsey\Local Settings\Temporary Internet Files\Content.IE5\IR1WC917\MC900014776[1].wmf"/>
          <p:cNvPicPr/>
          <p:nvPr/>
        </p:nvPicPr>
        <p:blipFill>
          <a:blip r:embed="rId1"/>
          <a:stretch/>
        </p:blipFill>
        <p:spPr>
          <a:xfrm>
            <a:off x="6705720" y="2362320"/>
            <a:ext cx="326880" cy="104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8224560" y="6397560"/>
            <a:ext cx="9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 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TextBox 6"/>
          <p:cNvSpPr/>
          <p:nvPr/>
        </p:nvSpPr>
        <p:spPr>
          <a:xfrm>
            <a:off x="2971800" y="1066680"/>
            <a:ext cx="32004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Story Problem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TextBox 19"/>
          <p:cNvSpPr/>
          <p:nvPr/>
        </p:nvSpPr>
        <p:spPr>
          <a:xfrm>
            <a:off x="1981080" y="3581280"/>
            <a:ext cx="510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8 stud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Rectangle 2"/>
          <p:cNvSpPr/>
          <p:nvPr/>
        </p:nvSpPr>
        <p:spPr>
          <a:xfrm>
            <a:off x="-38160" y="144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TextBox 19"/>
          <p:cNvSpPr/>
          <p:nvPr/>
        </p:nvSpPr>
        <p:spPr>
          <a:xfrm>
            <a:off x="1905120" y="2438280"/>
            <a:ext cx="510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What shape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8" name="Picture 5" descr=""/>
          <p:cNvPicPr/>
          <p:nvPr/>
        </p:nvPicPr>
        <p:blipFill>
          <a:blip r:embed="rId1"/>
          <a:stretch/>
        </p:blipFill>
        <p:spPr>
          <a:xfrm>
            <a:off x="3352680" y="3200400"/>
            <a:ext cx="2457720" cy="244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2" name="Picture 5" descr=""/>
          <p:cNvPicPr/>
          <p:nvPr/>
        </p:nvPicPr>
        <p:blipFill>
          <a:blip r:embed="rId1"/>
          <a:stretch/>
        </p:blipFill>
        <p:spPr>
          <a:xfrm>
            <a:off x="3352680" y="2590920"/>
            <a:ext cx="2457720" cy="2447640"/>
          </a:xfrm>
          <a:prstGeom prst="rect">
            <a:avLst/>
          </a:prstGeom>
          <a:ln w="0">
            <a:noFill/>
          </a:ln>
        </p:spPr>
      </p:pic>
      <p:sp>
        <p:nvSpPr>
          <p:cNvPr id="503" name="TextBox 19"/>
          <p:cNvSpPr/>
          <p:nvPr/>
        </p:nvSpPr>
        <p:spPr>
          <a:xfrm>
            <a:off x="1905120" y="480060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hexag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Text Box 4"/>
          <p:cNvSpPr/>
          <p:nvPr/>
        </p:nvSpPr>
        <p:spPr>
          <a:xfrm>
            <a:off x="8317800" y="6397560"/>
            <a:ext cx="71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TextBox 19"/>
          <p:cNvSpPr/>
          <p:nvPr/>
        </p:nvSpPr>
        <p:spPr>
          <a:xfrm>
            <a:off x="1905120" y="2971800"/>
            <a:ext cx="5105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What number is thi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TextBox 19"/>
          <p:cNvSpPr/>
          <p:nvPr/>
        </p:nvSpPr>
        <p:spPr>
          <a:xfrm>
            <a:off x="1905120" y="24382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9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9"/>
          <p:cNvSpPr/>
          <p:nvPr/>
        </p:nvSpPr>
        <p:spPr>
          <a:xfrm>
            <a:off x="1905120" y="2438280"/>
            <a:ext cx="510516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There are 10 ants on the ant farm.  3 ants go out and ran away.  How many ants are lef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Picture 5" descr="C:\Documents and Settings\jdempsey\Local Settings\Temporary Internet Files\Content.IE5\0EY8738R\MC900053159[1].wmf"/>
          <p:cNvPicPr/>
          <p:nvPr/>
        </p:nvPicPr>
        <p:blipFill>
          <a:blip r:embed="rId1"/>
          <a:stretch/>
        </p:blipFill>
        <p:spPr>
          <a:xfrm>
            <a:off x="6781680" y="2241720"/>
            <a:ext cx="1809720" cy="89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Rectangle 4"/>
          <p:cNvSpPr/>
          <p:nvPr/>
        </p:nvSpPr>
        <p:spPr>
          <a:xfrm>
            <a:off x="1447920" y="2514600"/>
            <a:ext cx="6248160" cy="24382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1" name="Picture 5" descr="C:\Documents and Settings\jdempsey\Local Settings\Temporary Internet Files\Content.IE5\0EY8738R\MC900053159[1].wmf"/>
          <p:cNvPicPr/>
          <p:nvPr/>
        </p:nvPicPr>
        <p:blipFill>
          <a:blip r:embed="rId1"/>
          <a:stretch/>
        </p:blipFill>
        <p:spPr>
          <a:xfrm>
            <a:off x="3048120" y="2743200"/>
            <a:ext cx="1295280" cy="64152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6" descr="C:\Documents and Settings\jdempsey\Local Settings\Temporary Internet Files\Content.IE5\0EY8738R\MC900053159[1].wmf"/>
          <p:cNvPicPr/>
          <p:nvPr/>
        </p:nvPicPr>
        <p:blipFill>
          <a:blip r:embed="rId2"/>
          <a:stretch/>
        </p:blipFill>
        <p:spPr>
          <a:xfrm>
            <a:off x="1981080" y="3429000"/>
            <a:ext cx="1295640" cy="64152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7" descr="C:\Documents and Settings\jdempsey\Local Settings\Temporary Internet Files\Content.IE5\0EY8738R\MC900053159[1].wmf"/>
          <p:cNvPicPr/>
          <p:nvPr/>
        </p:nvPicPr>
        <p:blipFill>
          <a:blip r:embed="rId3"/>
          <a:stretch/>
        </p:blipFill>
        <p:spPr>
          <a:xfrm>
            <a:off x="1447920" y="4191120"/>
            <a:ext cx="1295280" cy="64116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C:\Documents and Settings\jdempsey\Local Settings\Temporary Internet Files\Content.IE5\0EY8738R\MC900053159[1].wmf"/>
          <p:cNvPicPr/>
          <p:nvPr/>
        </p:nvPicPr>
        <p:blipFill>
          <a:blip r:embed="rId4"/>
          <a:stretch/>
        </p:blipFill>
        <p:spPr>
          <a:xfrm>
            <a:off x="5638680" y="3657600"/>
            <a:ext cx="1295640" cy="641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9" descr="C:\Documents and Settings\jdempsey\Local Settings\Temporary Internet Files\Content.IE5\0EY8738R\MC900053159[1].wmf"/>
          <p:cNvPicPr/>
          <p:nvPr/>
        </p:nvPicPr>
        <p:blipFill>
          <a:blip r:embed="rId5"/>
          <a:stretch/>
        </p:blipFill>
        <p:spPr>
          <a:xfrm>
            <a:off x="4343400" y="3048120"/>
            <a:ext cx="1295280" cy="64116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10" descr="C:\Documents and Settings\jdempsey\Local Settings\Temporary Internet Files\Content.IE5\0EY8738R\MC900053159[1].wmf"/>
          <p:cNvPicPr/>
          <p:nvPr/>
        </p:nvPicPr>
        <p:blipFill>
          <a:blip r:embed="rId6"/>
          <a:stretch/>
        </p:blipFill>
        <p:spPr>
          <a:xfrm>
            <a:off x="3505320" y="3886200"/>
            <a:ext cx="1295280" cy="64152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1" descr="C:\Documents and Settings\jdempsey\Local Settings\Temporary Internet Files\Content.IE5\0EY8738R\MC900053159[1].wmf"/>
          <p:cNvPicPr/>
          <p:nvPr/>
        </p:nvPicPr>
        <p:blipFill>
          <a:blip r:embed="rId7"/>
          <a:stretch/>
        </p:blipFill>
        <p:spPr>
          <a:xfrm rot="19287600">
            <a:off x="1353600" y="2695320"/>
            <a:ext cx="1295640" cy="642960"/>
          </a:xfrm>
          <a:prstGeom prst="rect">
            <a:avLst/>
          </a:prstGeom>
          <a:ln w="0">
            <a:noFill/>
          </a:ln>
        </p:spPr>
      </p:pic>
      <p:pic>
        <p:nvPicPr>
          <p:cNvPr id="528" name="Picture 12" descr="C:\Documents and Settings\jdempsey\Local Settings\Temporary Internet Files\Content.IE5\0EY8738R\MC900053159[1].wmf"/>
          <p:cNvPicPr/>
          <p:nvPr/>
        </p:nvPicPr>
        <p:blipFill>
          <a:blip r:embed="rId8"/>
          <a:stretch/>
        </p:blipFill>
        <p:spPr>
          <a:xfrm>
            <a:off x="4648320" y="5105520"/>
            <a:ext cx="1295280" cy="64116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13" descr="C:\Documents and Settings\jdempsey\Local Settings\Temporary Internet Files\Content.IE5\0EY8738R\MC900053159[1].wmf"/>
          <p:cNvPicPr/>
          <p:nvPr/>
        </p:nvPicPr>
        <p:blipFill>
          <a:blip r:embed="rId9"/>
          <a:stretch/>
        </p:blipFill>
        <p:spPr>
          <a:xfrm>
            <a:off x="5791320" y="5181480"/>
            <a:ext cx="1295280" cy="641520"/>
          </a:xfrm>
          <a:prstGeom prst="rect">
            <a:avLst/>
          </a:prstGeom>
          <a:ln w="0">
            <a:noFill/>
          </a:ln>
        </p:spPr>
      </p:pic>
      <p:pic>
        <p:nvPicPr>
          <p:cNvPr id="530" name="Picture 14" descr="C:\Documents and Settings\jdempsey\Local Settings\Temporary Internet Files\Content.IE5\0EY8738R\MC900053159[1].wmf"/>
          <p:cNvPicPr/>
          <p:nvPr/>
        </p:nvPicPr>
        <p:blipFill>
          <a:blip r:embed="rId10"/>
          <a:stretch/>
        </p:blipFill>
        <p:spPr>
          <a:xfrm>
            <a:off x="6934320" y="5257800"/>
            <a:ext cx="1295280" cy="641520"/>
          </a:xfrm>
          <a:prstGeom prst="rect">
            <a:avLst/>
          </a:prstGeom>
          <a:ln w="0">
            <a:noFill/>
          </a:ln>
        </p:spPr>
      </p:pic>
      <p:sp>
        <p:nvSpPr>
          <p:cNvPr id="531" name="TextBox 19"/>
          <p:cNvSpPr/>
          <p:nvPr/>
        </p:nvSpPr>
        <p:spPr>
          <a:xfrm>
            <a:off x="685800" y="51814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Box 19"/>
          <p:cNvSpPr/>
          <p:nvPr/>
        </p:nvSpPr>
        <p:spPr>
          <a:xfrm>
            <a:off x="1905120" y="24382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10  +  10  =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6" descr=""/>
          <p:cNvPicPr/>
          <p:nvPr/>
        </p:nvPicPr>
        <p:blipFill>
          <a:blip r:embed="rId2"/>
          <a:stretch/>
        </p:blipFill>
        <p:spPr>
          <a:xfrm>
            <a:off x="3429000" y="1295280"/>
            <a:ext cx="1943280" cy="381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4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Box 19"/>
          <p:cNvSpPr/>
          <p:nvPr/>
        </p:nvSpPr>
        <p:spPr>
          <a:xfrm>
            <a:off x="1905120" y="2438280"/>
            <a:ext cx="510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10  +  10  = 20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Text Box 8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TextBox 19"/>
          <p:cNvSpPr/>
          <p:nvPr/>
        </p:nvSpPr>
        <p:spPr>
          <a:xfrm>
            <a:off x="2895480" y="2514600"/>
            <a:ext cx="51055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What season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comes af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artika"/>
                <a:ea typeface="Kartika"/>
              </a:rPr>
              <a:t>Winter?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4" name="Picture 11" descr="C:\Documents and Settings\jdempsey\Local Settings\Temporary Internet Files\Content.IE5\ED8LR016\MC900355771[2].wmf"/>
          <p:cNvPicPr/>
          <p:nvPr/>
        </p:nvPicPr>
        <p:blipFill>
          <a:blip r:embed="rId1"/>
          <a:stretch/>
        </p:blipFill>
        <p:spPr>
          <a:xfrm>
            <a:off x="4724280" y="3505320"/>
            <a:ext cx="1086120" cy="131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Kartika"/>
                <a:ea typeface="Kartika"/>
              </a:rPr>
              <a:t>Spr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Box 6"/>
          <p:cNvSpPr/>
          <p:nvPr/>
        </p:nvSpPr>
        <p:spPr>
          <a:xfrm>
            <a:off x="1905120" y="1077840"/>
            <a:ext cx="570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bonus word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Picture 6" descr="C:\Documents and Settings\jdempsey\Local Settings\Temporary Internet Files\Content.IE5\0EY8738R\MC900446222[1].wmf"/>
          <p:cNvPicPr/>
          <p:nvPr/>
        </p:nvPicPr>
        <p:blipFill>
          <a:blip r:embed="rId1"/>
          <a:stretch/>
        </p:blipFill>
        <p:spPr>
          <a:xfrm>
            <a:off x="5486400" y="2895480"/>
            <a:ext cx="719280" cy="117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>
            <a:hlinkClick r:id="" action="ppaction://hlinkshowjump?jump=endshow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1143000" y="2666880"/>
            <a:ext cx="716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Thank You for Playing Jeopardy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Text Box 4"/>
          <p:cNvSpPr/>
          <p:nvPr/>
        </p:nvSpPr>
        <p:spPr>
          <a:xfrm>
            <a:off x="2610720" y="6400800"/>
            <a:ext cx="444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me Designed By C. Harr-MA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9516960" y="6254640"/>
            <a:ext cx="43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Box 19"/>
          <p:cNvSpPr/>
          <p:nvPr/>
        </p:nvSpPr>
        <p:spPr>
          <a:xfrm>
            <a:off x="1676520" y="19051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Kartika"/>
                <a:ea typeface="Kartika"/>
              </a:rPr>
              <a:t>10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Picture 6" descr=""/>
          <p:cNvPicPr/>
          <p:nvPr/>
        </p:nvPicPr>
        <p:blipFill>
          <a:blip r:embed="rId2"/>
          <a:stretch/>
        </p:blipFill>
        <p:spPr>
          <a:xfrm>
            <a:off x="2066760" y="1514520"/>
            <a:ext cx="5010480" cy="3828960"/>
          </a:xfrm>
          <a:prstGeom prst="rect">
            <a:avLst/>
          </a:prstGeom>
          <a:ln w="0">
            <a:noFill/>
          </a:ln>
          <a:effectLst>
            <a:outerShdw dist="50760" dir="5400000" blurRad="0" rotWithShape="0">
              <a:srgbClr val="92d05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2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2d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4"/>
          <p:cNvSpPr/>
          <p:nvPr/>
        </p:nvSpPr>
        <p:spPr>
          <a:xfrm>
            <a:off x="8355960" y="639756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6"/>
          <p:cNvSpPr/>
          <p:nvPr/>
        </p:nvSpPr>
        <p:spPr>
          <a:xfrm>
            <a:off x="2895480" y="38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Number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Box 19"/>
          <p:cNvSpPr/>
          <p:nvPr/>
        </p:nvSpPr>
        <p:spPr>
          <a:xfrm>
            <a:off x="1676520" y="1905120"/>
            <a:ext cx="5105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Kartika"/>
                <a:ea typeface="Kartika"/>
              </a:rPr>
              <a:t>13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3T20:59:30Z</dcterms:created>
  <dc:creator>Cary Harr</dc:creator>
  <dc:description/>
  <dc:language>en-US</dc:language>
  <cp:lastModifiedBy>afloyd</cp:lastModifiedBy>
  <dcterms:modified xsi:type="dcterms:W3CDTF">2013-02-18T02:47:51Z</dcterms:modified>
  <cp:revision>102</cp:revision>
  <dc:subject/>
  <dc:title>No Slide Title</dc:title>
</cp:coreProperties>
</file>